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042-8FF7-4938-8EED-959487E6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FFA-BB85-464B-B0F4-0A60D667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956-267E-4858-97F6-D4E64475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262-898C-46EC-B694-EB13CDE9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2ADF-8AA9-4219-A10F-0119142C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97E3-A624-4C39-86E1-1CF45DE6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8215-9789-4A6E-8AA1-F7D68CB2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E038-CD7E-4821-B640-0CB1ADB3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0D18-4297-4C98-8180-57B304D7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8A6F-D151-401A-8B21-7FE22FA3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97F5-ED91-456A-A6A7-D2CE7751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C850-2395-432D-A91C-8E70E82C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3073-8127-4620-BFE6-1FDB3AA9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A502-5ABA-4307-ADE4-C25F0FB8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C90A-8376-4C7F-8615-2658F597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29B0-FAC4-4604-A52D-0ACAB34D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E2A9-30DD-4CD0-8502-5698DA95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AAC93D-94FF-4CCD-88D9-EB281017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7E6E1-FDC2-4CDD-AC4D-4BF77854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994CD-431C-427E-BDB6-743614C3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DC7E4-FF97-4F2F-9CFA-9525465F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12E39-07AE-45F6-8368-176EC9E8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DD5E-D14C-42A1-B239-03AD8B9D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0CF52-9EBE-4719-BC63-C18A55EA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3883DC-DCD1-44B4-8EA5-F4A34D8E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827DFB-3645-4CD3-8A95-5ADEF183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A8655-CCD1-4047-A264-9B931810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A8A621-5BE0-4B83-8D85-DEE85BB0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1F7CE6-0731-4F92-A284-6F82BB95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2F6539-4159-417F-BEB9-05E1E027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A1BDE3-9211-4C1C-B736-83E712B0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473DEE-668C-4EAA-8E62-1C1D3D67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1A63AC-6500-4ACE-849E-F0EE783D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2092-08F4-443F-A53B-7F1F4AC3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F5D6C9-6B53-4A24-9CF8-6B8CB9DB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5E876F-C620-41CF-B2DE-34C819B1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BE821C-3855-457C-B267-50976A14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68DB49-C2F6-4F38-B95F-D871F997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6D3AC8-1590-4B10-A61B-284F9442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75B3D3-344C-4353-84B6-E68320E9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C32005-6562-4F9A-A09B-C3F89039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2E4D50-07C9-4BBE-A661-076676A4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B28DF6-0385-4622-9D72-B661AC07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5D8D24-265D-4EB8-A4A4-FEBE0487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E1F7-C757-4EDA-84E7-567D48C6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6CECF9-5817-45D7-B9D0-09D3561C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AE1F10-C0A4-4E8F-BC01-77DCF354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821C62-3BE5-4E00-A2EC-7EF28C43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6C0549-0450-43AF-959D-41AF1A72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FEA15-8DDE-46A8-AAC1-F59CBC6E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9511B9-82D1-4BCE-BA53-A2116200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7F47ED-C347-49C9-80A2-C6F47CDE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79104B-C8FB-460C-BD96-F66DCF67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BB6D49-5430-4826-8B5C-F9253C9C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F43F15-56F8-42AE-9380-03674047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CD64-A88C-4A1F-8D77-7C5CC66C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6C35D-C896-4D8F-88EF-586553E0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30C81-90D1-40F4-81A3-AE4DF76D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ADEE9-D04E-415D-A867-7CE4A446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7CE77-A7D5-46CF-83C4-6F3B772E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C4931-AE5B-4226-83ED-3251F951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B0B2B-5DFD-4799-AFB4-FEACE2CB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758B1-D3EE-49E6-BA7C-AC8290F7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DA9AD-09A5-4B7A-A113-D2907C7F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C998D-DEBB-42D9-B20A-BA583EF0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C2132-FC2D-4106-AA44-3060EBB8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49D6-E43A-4DD6-BACC-C7ED199A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61011-061A-45C2-AF80-6CA0B340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339A5-6B92-4C00-B130-FE086480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E1EA9-2402-4E29-8863-7ACA198E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FC1F65-4B54-47DA-B8D0-8747C7B1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A58424-AE39-41B6-BB11-C9A7763A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A9DA36-654D-4B3E-9A61-B9E1EF21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B73F18-D4FA-498A-B59F-2269D18B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7C56BF-7D7E-4067-99E4-CCB887E6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A25C90-72D3-42A2-AB5F-0A082D62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D88CC0-40E0-445D-A078-81FC76D4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35F9-EF6C-4566-BA68-82DD9295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22ABB1-4FE8-46B5-B12C-32D720E2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F885EB-F0BD-43CE-AA14-9E1980A4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780AFB-2657-44E5-8A29-4F8312FC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714AFD-1C1B-4534-B283-19CB791B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00DCC0-6F72-4D87-9691-9379E4CE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F92B3-67E6-4E88-8387-991F0016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35A5B-CA31-48A5-8CA8-CF02219C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8DCDB-9AFE-4AB1-8A13-ED027115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FA846-1157-41C5-A7E3-672DA24E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24FE8-A9DE-4AF6-AC5D-F2F9FADF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2FF-D465-4BA7-BF3A-F15C20D3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3CF09-22D1-44C7-B071-42AA1577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D7955-EE83-421F-9DFA-98528434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69627-4261-4C1E-9A20-7A898C91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1DF88-0515-4A94-B1B0-6C49BFBE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048AB-347B-471C-BFC3-7EC53EBB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DC7AC-3305-48C4-A355-FD1AEA74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E0084-254D-4265-8B75-35D9ADCB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47B9-3CF3-4365-8B4C-1D0FA9761E32}" type="slidenum">
              <a: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d6ec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8B41-CEC6-43F4-99D5-255910799CEA}" type="slidenum">
              <a:rPr b="1" lang="zh-TW" sz="1400" spc="-1" strike="noStrike">
                <a:solidFill>
                  <a:srgbClr val="d6ec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BE2B-56F6-490F-B023-591BA929986D}" type="slidenum">
              <a:rPr b="1" lang="zh-TW" sz="2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A7E8-2643-4053-971E-93CCA499ED26}" type="slidenum">
              <a: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E651-7D3F-455E-8C7A-6AE21564DC7E}" type="slidenum">
              <a: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4e5b6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79FC-912C-4186-B6A7-02CC8CB7952C}" type="slidenum">
              <a:rPr b="1" lang="zh-TW" sz="1400" spc="-1" strike="noStrike">
                <a:solidFill>
                  <a:srgbClr val="4e5b6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8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5900-C421-41A8-BE89-F048AEEBCB69}" type="slidenum">
              <a:rPr b="1" lang="zh-TW" sz="28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6CE3-7EE6-4A9A-874E-D82F0BF7C053}" type="slidenum">
              <a: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  <a:ea typeface="新細明體"/>
              </a:rPr>
              <a:t>CASTRO’S RISE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  <a:ea typeface="新細明體"/>
              </a:rPr>
              <a:t>The Economic crisis that lead to Fidel Castro’s rise to power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新細明體"/>
              </a:rPr>
              <a:t>The Economic Situation 1930s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came to power during the Great Depress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Great Depression devastated the economy (U.S. influence accentuated it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Sugar prices in 1928 were at $2.18 per pound, dropped to $1.72 per pound in 1929. By 1933 a pound of sugar sold for $0.57 per pound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nemployment/Starvation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Population increase meant people had inadequate hous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Bad living/sanitary conditions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encouraged the diversification of Cuba’s economy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Cuba’s economy specialized in sugar production since the 1700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Diversification took reserve that the Cuban government did not ha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Industrialization was focused on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Agricultural workers declined 1953 – 60% labor force was nonagricultura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新細明體"/>
              </a:rPr>
              <a:t>American Involvemen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U.S. involved in Cuba’s internal affairs; economically and politicall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promoted investments on U.S. companies (controlled key industries e.g. electricity, water etc.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.S. controlled greater part of Cuba’s resources including sugar, mineral rights, public-utility concessions, cattle land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Platt Amendments let U.S. operate military bases including Guantanamo Ba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.S. businesses owned 32% of Cuban sugar indust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sented by Cubans since their own businesses could never profi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Exports and Imports controlled by the U.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strictions were placed in price changes on exports and impor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新細明體"/>
              </a:rPr>
              <a:t>Government Expenditure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spent government funds on roads/promenades/monumental buildings etc instead of significant investments such as schools/healthcare/housing etc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To show power and wealt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Cuba failed to invest government funds wisely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80880" indent="-38088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ought radio stations: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160 stations in Cuba compared to the 60 in U.K. 50 in Franc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23 T.V. stations in Cuba compared to 12 in Mexico, 10 in Venezuel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For Propaganda; censorship; show wealth/powe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1219320" indent="-3049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80880" indent="-38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新細明體"/>
              </a:rPr>
              <a:t>Economic Corruption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liance on touris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offered incentives for businesses to invest in Cuba especially hotel investments which apparently increased tourism to lead to economic growt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this allowed gambling establishments to inhabit Cuba which contributed to the eventual moral degradation of the regim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Generated resentment among Cubans, average Cubans not allowed to use these facilities nor did they profit from these investme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Only Batista profited from bribes from these business investme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placed sugar production as Cuba’s key indust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Mafia-run casino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nited States mafia leader Meyer Lansky in the 1930s would pay Batista millions of dollars in return for control of Cuba’s casino industry Havana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Havana lost its culture when it was opened to gambling, organized crime, tourism and prostitution (new Las Vegas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w Cen MT"/>
                <a:ea typeface="新細明體"/>
              </a:rPr>
              <a:t>Disconnection of U.S. involvement</a:t>
            </a:r>
            <a:endParaRPr b="0" lang="en-US" sz="40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Castro severed all ties to the U.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established  close ties with the USSR (Import soviet oil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.S. severed all trading relations with Cuba (Without U.S. trade restrictions, Cuba recovered a steady flow of income through trade)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Cuba’s economy was able to fluctuate and experience economic growt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굴림"/>
              </a:rPr>
              <a:t>Why was this Factor Important?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굴림"/>
              </a:rPr>
              <a:t>Economy: important for succe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굴림"/>
              </a:rPr>
              <a:t>Standard of living brought dow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굴림"/>
              </a:rPr>
              <a:t>Ineffective policies from Batis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굴림"/>
              </a:rPr>
              <a:t>People unhappy; wanted chang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굴림"/>
              </a:rPr>
              <a:t>Batista’s popularity decrea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0:53:57Z</dcterms:created>
  <dc:creator>student</dc:creator>
  <dc:description/>
  <dc:language>en-US</dc:language>
  <cp:lastModifiedBy>Unggy</cp:lastModifiedBy>
  <dcterms:modified xsi:type="dcterms:W3CDTF">2008-10-27T18:45:57Z</dcterms:modified>
  <cp:revision>12</cp:revision>
  <dc:subject/>
  <dc:title>Castro’s Rise</dc:title>
</cp:coreProperties>
</file>