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EB05-C7F9-44C5-B7E2-B3AC83F5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122C-49BF-4B08-9177-D78FBFF2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B503-42AA-48E6-93E4-3D5AAF3B5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617E-69AD-4DC3-94FA-E7E45CA12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15D8-0B7B-47C1-AA25-172580C1E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E0C5-9977-43E9-AB9B-2AEC44E4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B4C4-459E-4FB3-9367-E7A23C74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F4EC5-D0F9-4044-86BC-BD0B3413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3E20-E087-42B9-8FD4-B27460EC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47F3-CC62-452A-9943-02E4FE1A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9AB8-8E48-4B8D-B89E-A4E19CBD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DA05-AFAF-48EA-A079-9901C8DA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B604-7BF0-428B-848C-F6F90306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407E-D3A4-4705-9376-0E38E44A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5FFA1-ADEC-4A28-9625-B1116334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94614-8110-48F4-9DCB-96CDB57D8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F04F-5861-4DA9-A1B0-8381EE3DF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34C9D5-F519-40FE-B737-EF01943B8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7C101E-A43D-4414-862B-0BD9ADDA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C7DA56-5B9C-47CF-AD5C-26BE04F7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D54285-AB00-41EA-8AD2-647D35DA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70AB54-E615-40A3-A0DC-1322D6A2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8C88-79F4-4ABA-8C7B-997459DD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24B6BA-6799-4983-81F7-143DEFBC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EA50BA-98CF-4DC6-A494-3DBB424D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955580-2DD6-408F-9F36-0D97CA5A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ECC371-5696-434B-91D2-DF830C96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12FCC3-A207-424B-A0BF-2F7CD945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6C816F-C78C-4915-B36E-605AC5392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D9FC11-4743-426F-8AD1-836F1A933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673A2B-5711-4B50-818E-CDE3B2FAE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54824B-DBB1-4CC1-B0FA-B2112647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CFF7C0-C569-4B60-9344-1BA54716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2BA0-4E0A-4B80-86DF-60BA5DD3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FE2C3D-8FAE-4A95-AED2-30347FB9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13F639-041E-42A2-9F52-2E8789DA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FA6E36-96BB-44FE-B870-1CAF367C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A265D3-8145-40C2-BDD7-0C412BAB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4865F9-6950-4EBD-8FDB-33A7949E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48CEEA-CC3C-4FD5-8489-EEED026B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627BF8-4A9D-4A10-9D38-060968E7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1DE11F-D62B-42FA-9F2A-1DC961CC0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81FEC0-D7E4-40FD-B032-D5BDE08FF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BE26E0-ED3F-4AF6-BD40-EA0EC6188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E51C-EED8-4FA2-9277-38686D94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073E95-0064-412D-A314-03FA15F2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DC5115-3122-489C-96DD-64413C1F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7BD758-6DDD-4C2D-93B7-748CAD0D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FBEA0D-212D-44F0-8BC1-D461C8EC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93E6F3-D859-419B-85DC-73A9A398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EB432C-71C5-4C81-AE80-A031F409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7013B5-7BB7-4663-AD16-397B5B8E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AAA4F9-8AFA-42D1-B5F8-AC0580EA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0DE7FB-9349-440A-8815-356F5BB2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B1A906-6F22-4A8B-928A-51C369836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AB27-9174-4031-A97C-A96423CB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70C3F4-2CD2-4BB1-97EE-68DFDD2D6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CE057-5630-4AAC-A4A3-694B455C9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4B6D9-6370-4DDB-8246-47AD7D8F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94982-E84F-4F8E-9F6A-CD243CD5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12955-855A-4B4E-8BBF-09410608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60529-5C0F-4AC9-8606-966735E3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CE4C9-22CF-4A70-961D-3FD310D0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472A6-07FB-4A1C-8ECF-2528E9FC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62624-8BC9-44F8-BC48-C226A53E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53934-8E23-4035-B480-83987136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91FE-0E75-4A24-AF9B-3CB90D7E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74F22-555E-4232-9348-0D4C8A80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B8B6D-514B-430E-B391-B0233CC74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83984-52CB-45FD-A961-65D62CECB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E80E85-E19B-432A-B5EB-60DF62A4F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81AD7A-8C65-41A4-9B92-9155C376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13CB64-1237-4888-8F6F-7CAE3431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043ED8-64CF-4FAC-A7E3-BB8B54D9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07EE63-67EC-4EA1-AEA6-4EB67839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DDDEBE-D807-4C80-8790-571D3132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ECF8C9-012A-4923-AE74-AC2E22A6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3032-5CEF-4EE0-9935-CD19D250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A6922B-234B-40B2-9753-D4745922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C879E6-2592-47D5-B02B-57C4062D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375438-AD57-4176-83E9-CD9B1561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43BF32-0FD4-44D6-955C-82D4AA812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ECB9B0-2270-49C9-A0EF-113450FA1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2131A-7D50-4121-9AAE-BFCB447E0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A4C94-C376-4C24-A57F-21C87CE1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89C81-4D80-433D-909C-CD8158FE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85168-E963-40CE-9077-7E1AED4F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011BA-7ED3-4AD0-9CF2-0C9573EA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B78B-F7BD-4485-B24D-D2A7DB37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6D028-8E46-435F-A40E-27B9EB7D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257E3-0A66-4D74-872D-21556E37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259B9-1421-4735-865F-FFBEB12F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79BBD-9612-44D7-893D-66B51C47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8C20A-8EB6-40D7-864B-6F08F3AB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F8065-F270-4E15-8A51-BCB0635E3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B2F49-D5BD-4D9F-BA4F-0B96AD433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400" spc="-1" strike="noStrike">
                <a:solidFill>
                  <a:srgbClr val="ffffff"/>
                </a:solidFill>
                <a:latin typeface="Times New Roman"/>
                <a:ea typeface="微軟正黑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9C01-3BDC-40F9-A5A8-A2D8D3AFE5E4}" type="slidenum">
              <a:rPr b="1" lang="zh-TW" sz="1400" spc="-1" strike="noStrike">
                <a:solidFill>
                  <a:srgbClr val="ffffff"/>
                </a:solidFill>
                <a:latin typeface="Times New Roman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ecf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d6ecff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400" spc="-1" strike="noStrike">
                <a:solidFill>
                  <a:srgbClr val="d6ecff"/>
                </a:solidFill>
                <a:latin typeface="Times New Roman"/>
                <a:ea typeface="微軟正黑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95EF-F6D5-45F8-B9E8-04A8786A7E83}" type="slidenum">
              <a:rPr b="1" lang="zh-TW" sz="1400" spc="-1" strike="noStrike">
                <a:solidFill>
                  <a:srgbClr val="d6ecff"/>
                </a:solidFill>
                <a:latin typeface="Times New Roman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400" spc="-1" strike="noStrike">
                <a:solidFill>
                  <a:srgbClr val="ffffff"/>
                </a:solidFill>
                <a:latin typeface="Times New Roman"/>
                <a:ea typeface="微軟正黑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8BB5-ECA8-4CB6-9ABE-FD3C6C20CB28}" type="slidenum">
              <a:rPr b="1" lang="zh-TW" sz="2400" spc="-1" strike="noStrike">
                <a:solidFill>
                  <a:srgbClr val="ffffff"/>
                </a:solidFill>
                <a:latin typeface="Times New Roman"/>
                <a:ea typeface="微軟正黑體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400" spc="-1" strike="noStrike">
                <a:solidFill>
                  <a:srgbClr val="ffffff"/>
                </a:solidFill>
                <a:latin typeface="Times New Roman"/>
                <a:ea typeface="微軟正黑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5336-CF15-455C-B377-172B4BC43E62}" type="slidenum">
              <a:rPr b="1" lang="zh-TW" sz="1400" spc="-1" strike="noStrike">
                <a:solidFill>
                  <a:srgbClr val="ffffff"/>
                </a:solidFill>
                <a:latin typeface="Times New Roman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400" spc="-1" strike="noStrike">
                <a:solidFill>
                  <a:srgbClr val="ffffff"/>
                </a:solidFill>
                <a:latin typeface="Times New Roman"/>
                <a:ea typeface="微軟正黑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B1CD-1328-489F-8D12-F5B765AF4C92}" type="slidenum">
              <a:rPr b="1" lang="zh-TW" sz="1400" spc="-1" strike="noStrike">
                <a:solidFill>
                  <a:srgbClr val="ffffff"/>
                </a:solidFill>
                <a:latin typeface="Times New Roman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400" spc="-1" strike="noStrike">
                <a:solidFill>
                  <a:srgbClr val="4e5b6f"/>
                </a:solidFill>
                <a:latin typeface="Times New Roman"/>
                <a:ea typeface="微軟正黑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930A-946B-4387-BDBC-9CCCF41B8593}" type="slidenum">
              <a:rPr b="1" lang="zh-TW" sz="1400" spc="-1" strike="noStrike">
                <a:solidFill>
                  <a:srgbClr val="4e5b6f"/>
                </a:solidFill>
                <a:latin typeface="Times New Roman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800" spc="-1" strike="noStrike">
                <a:solidFill>
                  <a:srgbClr val="ffffff"/>
                </a:solidFill>
                <a:latin typeface="Times New Roman"/>
                <a:ea typeface="微軟正黑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FFE0-6ACB-41BE-9755-ADD0E4453359}" type="slidenum">
              <a:rPr b="1" lang="zh-TW" sz="2800" spc="-1" strike="noStrike">
                <a:solidFill>
                  <a:srgbClr val="ffffff"/>
                </a:solidFill>
                <a:latin typeface="Times New Roman"/>
                <a:ea typeface="微軟正黑體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ea157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dd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400" spc="-1" strike="noStrike">
                <a:solidFill>
                  <a:srgbClr val="ffffff"/>
                </a:solidFill>
                <a:latin typeface="Times New Roman"/>
                <a:ea typeface="微軟正黑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EC0D-6DD8-4BD2-AD86-6A039D24A274}" type="slidenum">
              <a:rPr b="1" lang="zh-TW" sz="1400" spc="-1" strike="noStrike">
                <a:solidFill>
                  <a:srgbClr val="ffffff"/>
                </a:solidFill>
                <a:latin typeface="Times New Roman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ecff"/>
                </a:solidFill>
                <a:latin typeface="Tw Cen MT"/>
                <a:ea typeface="新細明體"/>
              </a:rPr>
              <a:t>CASTRO’S RISE</a:t>
            </a:r>
            <a:endParaRPr b="0" lang="en-US" sz="4400" spc="-1" strike="noStrike">
              <a:solidFill>
                <a:srgbClr val="d6ecff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  <a:ea typeface="新細明體"/>
              </a:rPr>
              <a:t>The Economic crisis that lead to Fidel Castro’s rise to power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  <a:ea typeface="新細明體"/>
              </a:rPr>
              <a:t>The Economic Situation 1930s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Batista came to power during the Great Depress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Great Depression devastated the economy (U.S. influence accentuated it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Sugar prices in 1928 were at $2.18 per pound, dropped to $1.72 per pound in 1929. By 1933 a pound of sugar sold for $0.57 per pound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Unemployment/Starvation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Population increase meant people had inadequate hous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Bad living/sanitary conditions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Batista encouraged the diversification of Cuba’s economy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Cuba’s economy specialized in sugar production since the 1700s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Diversification took reserve that the Cuban government did not hav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Industrialization was focused on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Agricultural workers declined 1953 – 60% labor force was nonagricultural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  <a:ea typeface="新細明體"/>
              </a:rPr>
              <a:t>American Involvement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U.S. involved in Cuba’s internal affairs; economically and politicall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Batista promoted investments on U.S. companies (controlled key industries e.g. electricity, water etc.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U.S. controlled greater part of Cuba’s resources including sugar, mineral rights, public-utility concessions, cattle lands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Platt Amendments let U.S. operate military bases including Guantanamo Ba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U.S. businesses owned 32% of Cuban sugar industr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Resented by Cubans since their own businesses could never profi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Exports and Imports controlled by the U.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Restrictions were placed in price changes on exports and impor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  <a:ea typeface="新細明體"/>
              </a:rPr>
              <a:t>Government Expenditure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Batista spent government funds on roads/promenades/monumental buildings etc instead of significant investments such as schools/healthcare/housing etc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800280" indent="-3430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To show power and wealth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800280" indent="-3430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Cuba failed to invest government funds wisely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80880" indent="-38088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Bought radio stations: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800280" indent="-3430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160 stations in Cuba compared to the 60 in U.K. 50 in Franc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800280" indent="-3430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23 T.V. stations in Cuba compared to 12 in Mexico, 10 in Venezuel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800280" indent="-3430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For Propaganda; censorship; show wealth/power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8002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1219320" indent="-3049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800280" indent="-3430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80880" indent="-380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  <a:ea typeface="新細明體"/>
              </a:rPr>
              <a:t>Economic Corruption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Reliance on tourism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Batista offered incentives for businesses to invest in Cuba especially hotel investments which apparently increased tourism to lead to economic growth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this allowed gambling establishments to inhabit Cuba which contributed to the eventual moral degradation of the regime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Generated resentment among Cubans, average Cubans not allowed to use these facilities nor did they profit from these investmen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Only Batista profited from bribes from these business investment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Replaced sugar production as Cuba’s key industr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597240" indent="-597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Mafia-run casino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United States mafia leader Meyer Lansky in the 1930s would pay Batista millions of dollars in return for control of Cuba’s casino industry Havana</a:t>
            </a:r>
            <a:r>
              <a:rPr b="0" lang="en-US" sz="1600" spc="-1" strike="noStrike">
                <a:solidFill>
                  <a:srgbClr val="000000"/>
                </a:solidFill>
                <a:latin typeface="Tw Cen MT"/>
                <a:ea typeface="新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lnSpc>
                <a:spcPct val="80000"/>
              </a:lnSpc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Havana lost its culture when it was opened to gambling, organized crime, tourism and prostitution (new Las Vegas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5b6f"/>
                </a:solidFill>
                <a:latin typeface="Tw Cen MT"/>
                <a:ea typeface="新細明體"/>
              </a:rPr>
              <a:t>Disconnection of U.S. involvement</a:t>
            </a:r>
            <a:endParaRPr b="0" lang="en-US" sz="40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  <a:ea typeface="新細明體"/>
              </a:rPr>
              <a:t>Castro severed all ties to the U.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Reestablished  close ties with the USSR (Import soviet oil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U.S. severed all trading relations with Cuba (Without U.S. trade restrictions, Cuba recovered a steady flow of income through trade)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新細明體"/>
              </a:rPr>
              <a:t>Cuba’s economy was able to fluctuate and experience economic growth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5b6f"/>
                </a:solidFill>
                <a:latin typeface="Tw Cen MT"/>
                <a:ea typeface="굴림"/>
              </a:rPr>
              <a:t>Why was this Factor Important?</a:t>
            </a:r>
            <a:endParaRPr b="0" lang="en-US" sz="4400" spc="-1" strike="noStrike">
              <a:solidFill>
                <a:srgbClr val="4e5b6f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굴림"/>
              </a:rPr>
              <a:t>Economy: important for succes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굴림"/>
              </a:rPr>
              <a:t>Standard of living brought dow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ea157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굴림"/>
              </a:rPr>
              <a:t>Ineffective policies from Batis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굴림"/>
              </a:rPr>
              <a:t>People unhappy; wanted chang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7fd13b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굴림"/>
              </a:rPr>
              <a:t>Batista’s popularity decreas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00:53:57Z</dcterms:created>
  <dc:creator>student</dc:creator>
  <dc:description/>
  <dc:language>en-US</dc:language>
  <cp:lastModifiedBy>Unggy</cp:lastModifiedBy>
  <dcterms:modified xsi:type="dcterms:W3CDTF">2008-10-27T18:45:57Z</dcterms:modified>
  <cp:revision>12</cp:revision>
  <dc:subject/>
  <dc:title>Castro’s Rise</dc:title>
</cp:coreProperties>
</file>