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6AB-17DE-4B39-9B2E-52EA8D22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D50-FBD2-4CA6-8E0F-938C48C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8C7-31E5-4E02-9C6B-9565BFD2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DB3-F691-4CE8-A648-FA929807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4BAD-C0A0-43A8-B823-AA19930A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32F-9D03-401F-98C6-1FF3F63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A0F-3BF5-4582-9EF1-2B08AC23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FBB2-7226-474C-AF09-5D517E7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8AE-5194-40FA-B001-4F6381B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6B48-E4B7-4F2A-AB20-917C4853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8E11-9B51-46E3-AAED-B55D4A8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3B3-1BB1-47E4-80D5-412F170B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DF58-E180-4FB8-9EAC-8E94CFDC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2C33-D835-424C-BEB0-519F2CC7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F366-B760-4834-8AC1-00F0B77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251E-819E-40F9-9388-216A91BA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AEAA-BD59-41D9-9E1D-9EFBC15C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78CA3-9B71-4758-9E08-6DE86D99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EAAAE-64E8-4CCC-8F81-5A07789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4B8C-EE9F-42D4-82B0-3F58982D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1071E-3155-42C1-9BA4-7C848586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A693-8B49-4F96-AD47-437749AA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81B2-DD04-4340-8F5D-CFAF3301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CA59-DD79-4F46-B8F7-6F782E1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BE31-F5D7-4308-BD0B-C15D3888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1B55-D3F7-40CA-946D-F104689A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E6DE-0DDE-45EF-AD55-560C1A1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DF6D4-74BC-40AF-8E42-30B23BA2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C48C0-A6BA-4F62-B25B-11884EA1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6538B-2D27-4C8F-AD7D-33E079BF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C96D3-9C9F-4024-99D6-91D084072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7C95-2756-4691-BAE0-EDA77FF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844D-4199-426B-89F5-88F3941E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C3E-7759-4A85-9F29-8D1AA58A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A3731-D050-4C4C-8887-0EC6C13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83180-5C35-476B-BA6E-22AB9E19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09B4-957D-4894-B24E-895412D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ABDBE-6D68-4B38-AA7F-F50E7AF5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E35D9-6AF1-4F61-8054-5FAF7E59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91D6-6C8F-4C73-A7D1-5CCD9DA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46FA3-1A9D-40D5-BBA7-160CF26D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7B813-9FCE-460F-A2A4-772C7CE9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3E8A-A2E7-407B-BE21-04309C52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2B62-F09F-4340-B5F0-4BE53C02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F63-94F0-4CC3-AD52-18F1D51C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F09B6-EE84-4F79-A119-B37F941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A4A3-926B-4D26-8A77-6E7FE9B0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07E4-E3BC-4595-987D-67B5DFB4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FD8C-ED01-4062-AAF4-23C80263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1C73F-11E9-4AEB-96C9-A6701B3A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42E5A-FBEF-4649-B9DA-26570669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B8391-E9BF-4DDB-BDD7-19FDE408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67FB-2C23-4CBB-A3DD-69B98F58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95648-5472-4AA1-96B4-C60DB1FD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7635-50DB-46F1-9122-BDCEAACF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1E4-866F-4A3F-BE66-53E81D23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2ACDB-E6C9-4DAF-979E-F28691E1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B7370-4612-41B7-AE44-6535924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6449-BF87-4535-BDE6-4F91D9A3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224E7-1E99-4F3B-8A16-0A7E72F7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FD2A-9D85-439F-B54F-EF41B118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08C0A-BBFC-4046-B926-8BE57DEE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66137-A8A8-4179-AD18-D0BB8209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92C7-203A-40C6-BDD1-9C0160F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7E726-6C4C-4395-BFE3-EF4CF4DC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2B88-7E94-46A9-84E2-47413CB9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4C6-2A6D-4366-AB93-0772AE6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841DF-3335-4C89-B70B-B0C1D162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2AFF-2F61-4236-919E-B3F20EDD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6A2C7-5CD2-49DB-A5C2-44E2E5D20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52776-158E-487C-B414-AD923427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54EE1-FC3C-412D-9D99-9BFD2F30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25F3C-38A0-4585-AB02-D975040E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387A-395D-4142-ABA8-A4B44296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D10C2-76AA-40C3-8620-D272C6F7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32DA-CB08-4A17-9E59-59DF3F01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D9BBC-69C7-4907-AED0-7401E70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647-4F43-483B-BAA6-658C77C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77507-714E-442B-B1A5-91A60F99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B6D76-C033-4C47-A02D-E15FFE95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FEABD-7AB1-4516-AB15-F9BF204F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33E9-792B-4A43-A6D5-B7E78B6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26D59-C4ED-4CFC-8398-1998A2C1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C0D1E-E93B-427B-AB3E-0EE8A35A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61211-FA1A-4FE0-A1BE-7B619FD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07B7D-280E-48AA-9FF3-9A8E9105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1EABD-4ABB-4A0E-8BC6-5A51D44E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2A9F8-5F60-4B2B-A67C-7A83CFEB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090-57F8-4F03-84DF-449DCB6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C2B6-BAB1-4115-A8D4-1E2749C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8E1A4-AA25-4468-B519-6AAB058A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49EA6-EC4C-4A4F-BEBC-AFADD76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ED160-A2D6-4E74-AC7D-C0402992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CD99-A7FD-4852-8F18-97E22D1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8B98E-665A-432B-8A8E-CFF9CA78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28A85-B71D-4D12-BA70-66110689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BEDA-409D-4D1A-9919-A4F8A85442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40A7-A0C8-4A8D-A3A0-73AAE107C4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55CA-0DD4-449C-9A5B-33EC9D113A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DE0F-639F-42A1-9149-79B259C2CD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C7FD-B6E0-44F9-9F0E-B89617ED54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D958-2813-4483-8F07-9BF7F1340A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71E-8795-4D16-BE2F-28C9915C4F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F403-84D4-4770-8DD0-A5022A7553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deolo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del Castro was most definitely a nationalist – he wanted a violent revolution to overthrow the Batista regime, unlike the Communists, who wanted a peaceful revolution. Castro aligned with the Orthodoxo, who wanted a violent revolution. Castro also believed in the defense of nationalist independence with the necessity of socialis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del Castro once described his regime as ‘humanistic’, not communist. In the early years of his political career, it was clear that many of his ideas were derived from Social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 ‘History will absolve me’ speech is evidence that he may have been inclined towards Communism from the start – it was seen as Marxist by some Orthodo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Castro’s ideas were revolutionary – especially his ideas about education, welfare and healthcare. He wanted to have widespread healthcare for everybody. Even today, Cuba has an excellent healthcare syst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reason why Castro was so successful was because his ideas and his strong will were a welcome change from Batista, who lied to the Cuban people and began a militarized regime. One example showing his strong ideas was the fact that he refused to support any revolutionary groups who did not have strong idea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Cubans in general disapproved of Communism, especially the cuban workers. Most people looked upon it with suspicion; this may have been the reason why Castro was not a Communist to begin with – he presented himself as a idealistic leader, but never a Communist, although many of his ideas leaned towards communis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4:56:24Z</dcterms:created>
  <dc:creator>CUHK</dc:creator>
  <dc:description/>
  <dc:language>en-US</dc:language>
  <cp:lastModifiedBy>student</cp:lastModifiedBy>
  <dcterms:modified xsi:type="dcterms:W3CDTF">2008-10-09T01:12:45Z</dcterms:modified>
  <cp:revision>5</cp:revision>
  <dc:subject/>
  <dc:title>Fidel Castro</dc:title>
</cp:coreProperties>
</file>