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EC88-0721-46D0-89F2-40C6FD72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59C1-F74A-47C9-B795-A48EE6BD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C6A4-3F9F-429C-8F04-99625BB2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1179-FCDE-4B16-A691-AEB0F1B6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E0B0-6396-4F71-AB74-C4F317629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5A9D-F011-40CD-8CBB-23AF96A7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0057-0119-4E7F-9950-E7E61D92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7D60-1198-4D15-ADF2-28DC40EA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4BD9-7327-4F42-806F-76FC91DD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B35B-0629-4847-AA01-B4FD90F2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6529-5AF3-429B-B4FA-20DCA5DF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3159-E564-40FA-B015-5DC74D59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A072-096A-40F6-A12E-D7300BDD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27B4-188B-42CB-A2DA-345AEBF5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2942-57B9-42DD-A58A-AC9F1DAD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9DA7-A15C-4573-9389-8553A1E5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4255-2BB9-46DD-A773-8AE22FA0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6F6EC-2556-40FA-82B7-D90DE725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88F2B-78CD-4AD6-9603-B53AADBC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3D661-1F09-455F-9DCC-10EB2C3A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95956-633D-4F0C-A043-D071E73F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A3B9F-D33D-4D42-9EED-F73EE48D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20BE-B8AC-4BB5-A580-79B6F472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997C5-4DAA-488D-8E09-3E6924D3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26797-306C-4FBF-AFD4-F788E4CE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7ABAF-1E4B-444A-99F1-9E0C91B4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5F55E-4805-448E-87B7-0FDBBD6F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87990-9884-43C8-8FD3-FFDD7CBA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964BF-6F01-4A78-98FA-ECD353B5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5C520-9A21-422F-9B8D-4968F637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9691E-FD94-435F-9AB9-2C905FC7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027DD-1E88-4727-A568-E9C05CF4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1DE3E-B61B-4AE6-963C-1CDD608E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38A9-D9E6-4226-B92D-AF97988C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E56BC-B4A3-40DF-B5CA-BA476027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A7AE0-3B6D-4835-AE39-7FB024C7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AB3BF-B2BA-41FB-9573-C5A8FF46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00337-C223-4C9D-A614-4F1899F3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35B6F-F765-4A4F-B58A-D50BD759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BE8A3-F614-4FEA-8783-1E8C4F43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7107F-54AD-405E-A7E8-396B9323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C44AA-B5FD-406F-8BD4-69AA8578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4AAA5-F20B-4458-A82D-CA7162FF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0D0E4-0877-4C81-9B71-DAEEB977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C495-6970-4425-8E6D-68DCFF33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9E86E-C3DE-4E61-A1E7-B8933F8A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E87F1-8116-4634-8DC3-22CE44FB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72A26-0AA9-43ED-BE85-7A5F7FF6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CC1CE-C03E-4779-94B0-30BD1F9F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379EB-D165-4E9D-AE35-957BCF79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7B301-786D-40D4-B8C7-EC55E1FF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6F24A-C4BD-4585-A7EE-30214086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8BBFF-2D4C-4B0D-8B30-7A0193E3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F6AB8-908D-47DB-8229-8888D4F8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1D8E8-943B-4A97-8B48-9792A40B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6C42-3C2F-433F-B5EC-704526E4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816C2-648D-498D-B66D-174F579B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BBBF2-16AC-4143-9248-BF428104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981F9-4BEE-4DD1-BB80-9D023B09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3B028-B112-4ABB-8812-3DF02417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2B906-1627-4131-BC5C-18ABA23C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79CB4-FB87-4D2D-9968-AEA9511C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D91BD-E915-4C20-83CF-596941EB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C1C34-0D1C-404F-8706-B9D8B944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AB518-A31D-4524-9FAA-02D0D5F7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BBB68-1AC6-4955-91DC-41FC1078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954D-F1A0-43F3-A52A-F21779E1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A88D2-8AE3-4F8D-941C-9178C651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98D3E-A222-48DC-B0A4-97D8BBD8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7AC0F-A7EB-4782-BAAA-89D4E5A1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3521B-38BD-4361-B989-ABFB90D7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93F38-B1D4-4CA1-A038-02028232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DF0F6-BC78-4958-A2E2-0BD9508D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2A5F9-29FB-4302-AC6A-0F9AA053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B121F-8FF1-4235-BA3E-970EFE4E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58F8A-CD5D-4DF7-90E7-CD97B6C4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DE872-D24A-45DE-8A25-FBFC09FF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1EAB-47D3-437E-A6DB-56315401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4E8AB-0D7A-4CFD-804B-7B455CF1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A651C-F995-4348-92B4-DCF7BE36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B8975-7C58-463E-A6F8-DBBE5B2B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B357F-855B-4AAB-B058-BA239196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F2407-B115-4D65-8E97-430EF6D2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7ECCD-7D9E-4FE4-B61B-70F51411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183B9-87AC-4B4C-B4EE-48B18876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47363-179D-4E6A-9117-BF82A0AD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A4AD7-C096-422F-B674-2F0D44BE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A92D0-984C-4D32-9C4F-EF0B2D0B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00C5-8EC0-4D17-9E4B-37849648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D0FB2-1AA4-4C4D-B7ED-3A8BF480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2BBF1-2251-433D-AB30-68958E40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2BDF7-EBD6-4644-8707-44777292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F786A-EDD5-4B6D-A1D4-9747DCEF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F9DD2-5E08-4558-80CE-EF975067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99662-A21C-49E3-8BEA-6847AF56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98064-2EBE-4099-A354-2A805680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1719-446E-4305-9831-D3E6C6E5A8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F018-9C71-484B-B419-1F378F1D90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FF5C-6E45-4D6E-B31C-A885E802B2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F4F8-1E98-461F-BBC9-B5AA9AEC5A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0E38-E96A-45CD-B45A-7DEA7DCFAD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C463-FF6A-49DA-BC42-1FC43A7BAD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990E-C468-4B67-865C-EBE9716DCB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D8C8-AE95-434E-AB97-A040CD9BD0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deolog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del Castro was most definitely a nationalist – he wanted a violent revolution to overthrow the Batista regime, unlike the Communists, who wanted a peaceful revolution. Castro aligned with the Orthodoxo, who wanted a violent revolution. Castro also believed in the defense of nationalist independence with the necessity of socialism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del Castro once described his regime as ‘humanistic’, not communist. In the early years of his political career, it was clear that many of his ideas were derived from Socialis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s ‘History will absolve me’ speech is evidence that he may have been inclined towards Communism from the start – it was seen as Marxist by some Orthodo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y of Castro’s ideas were revolutionary – especially his ideas about education, welfare and healthcare. He wanted to have widespread healthcare for everybody. Even today, Cuba has an excellent healthcare syst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other reason why Castro was so successful was because his ideas and his strong will were a welcome change from Batista, who lied to the Cuban people and began a militarized regime. One example showing his strong ideas was the fact that he refused to support any revolutionary groups who did not have strong idea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st Cubans in general disapproved of Communism, especially the cuban workers. Most people looked upon it with suspicion; this may have been the reason why Castro was not a Communist to begin with – he presented himself as a idealistic leader, but never a Communist, although many of his ideas leaned towards communis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4:56:24Z</dcterms:created>
  <dc:creator>CUHK</dc:creator>
  <dc:description/>
  <dc:language>en-US</dc:language>
  <cp:lastModifiedBy>student</cp:lastModifiedBy>
  <dcterms:modified xsi:type="dcterms:W3CDTF">2008-10-09T01:12:45Z</dcterms:modified>
  <cp:revision>5</cp:revision>
  <dc:subject/>
  <dc:title>Fidel Castro</dc:title>
</cp:coreProperties>
</file>