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BCB8-DD6D-4732-A7BE-09F4515F6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dow dictatorship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aky economy, but also some social reform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men's rights as well as trade un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ista running Cuba openly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governed well compared to previous rulers, and had the support of the army, the upper and middle classes, the communists, the working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hutting down on the press - Batista is an indecisive leader - he lets Castro publish up to 25 denunciations of him in the pa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a had had a history of failed heroes and leaders - Marti, Chibas, Guite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tro's clever manipulation of the media - as seen with Radio Rebelde, his use of Batista's newspa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nacada Barracks raid importantly appeals to the Cuban's sense of identity - it is classically Cuban hero in na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d to the Ortodoxos, the Autenticos, the PSP, Fidel Castro seemed to be a person genuinely willing to risk his life for chan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 Manifesto was designed to gain the support of people who had been especially wronged by Batista's regime - it excluded "the well-off and conservative sections of the natio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ality, Fidel Castro also was careful to gain the support of the sugar barons through his economic polic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del Castro maneuvered carefully.  For example, although he distanced himself from the PSP, he did not ostracize himself entirely from them, as they were the only group in Cuba with a proper grassroots mov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780-25D1-4C17-B49F-46260E3D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F06-DBE3-44EB-8D45-30124AC8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242-7B0C-4817-8948-215AC468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326-3326-4A55-ADF0-EF2EC99A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44D-7EDD-4FB8-8CE7-876157EC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1FF-4126-4578-8C58-80324379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689-68E2-4C75-9C3D-3057FF84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801-97EC-4B3E-9962-C74E6B2C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6F7-106C-4B0E-BAE7-7A765379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469-81D9-49CA-9FE6-A4242AE9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08B-174B-4C82-92D8-ACC61137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A38-CD3D-4B98-84B0-0808107E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1342-A8EF-4A8E-B212-9BF943116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924280"/>
            <a:ext cx="84614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What caused the Cuban R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85840" y="4668840"/>
            <a:ext cx="6615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ro as a leader, and Batista's corrupted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9280" y="1849320"/>
            <a:ext cx="831528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disastrous Estrada, Gomez, Machado governments, Batista took power in the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t of the Sergea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3-1940, Batista ran a shadow dictatorship through various pupp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1940-1944 Batista ran Cuba open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lining his own pockets, Batista turned over power to his old opponent Grau San Martin and went to Flor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85560"/>
            <a:ext cx="8461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1944 - 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1854360"/>
            <a:ext cx="831528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 during these years was rife with rampant corruption, political assassinations and ri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would have influenced Castro in the University of Havana, which was prone to rio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ana became a city full of gangsters, prostitution and narcotics under both Grau San Martin's and Batista's rule, causing a loss of identity for the Cuban peopl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440" y="1730160"/>
            <a:ext cx="852480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s were often rigged - Batista came to power in 1952 in a seizure of power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ista quickly shuts down on the press and personal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t of his regime was characterized by brutality and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cada uprising was met with torture and execution, which helped Castro garner sympathy from th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rong Leadershi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2400" y="1722240"/>
            <a:ext cx="81882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ipulates acts such as the Moncada Barracks incident to gain media atten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ew attention to the Moncada Program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rol over the media -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dia coups such as Radio Rebelde (1958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speeches including the well known "History will absolve me" speech painted a much more positive image of the future for the Cuban peop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rong Leadershi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1697040"/>
            <a:ext cx="844704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ideology as outlined in his Manifesto gained the support of those who had been especially wronged by Batista's regi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stro maneuvered carefully - he could not completely ostracize himself entirely from the PSP but at the same time had to avoid raising suspicions in the US and amongst the anti-Batista opposi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