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1909-2487-4EEF-811F-745AEC30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AC6-E04B-4C26-9F0D-7E1894EC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3D8-6625-4C43-9A30-90C5891D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80B-E3FF-4BE6-A7BA-E995DF19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49DC-C3E8-476E-B0EF-36FC0F92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7B4-3E01-49AF-AD9A-9172C3F2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C6F-F1F9-42B8-BEE8-7231F29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0AF-B920-432F-8F7E-C3C992D2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087-DD06-412B-BA97-8770C801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387-0440-476F-A4E8-7EDC2FE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27E-2BE0-41B0-850C-02E07DBB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25B-23E7-491F-82C4-316B5D72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9DC4-321C-4685-BE74-A381924B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m, Military Regimes…fun stuff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down thoughts on the following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eel like it is our responsibility to fund struggling countries?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what you know of communism, do you feel like it was/is important to try and seek allies i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FK’s Alliance for Progress was intended to do just that, how do you feel about such large expendi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your neighbor and answer the following question, please write down your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the overlying foreign policy be for the current/next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be specific for the time period we are in and justify you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in communist parties increased by 500% as the Cold War g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-the formation of the Organization of American States (O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quarters in Washington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embers had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35 independent nations ar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2-Cuban government was excluded as a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are to strengthened democracy, defend human rights, and promote sustainabl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tack on one member state is defined as an attack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 does act independently quit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s in Nicaragua and the invasion of Pa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 was condemned by other OAS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mber nations maintain ties to Cuba…obviously the US 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ations needed loans to remain stable (called ISI lo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ere eager to show their loyalty because of Cold War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st parties were excluded from political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 loans were being used by politicians…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off disorder and keeping a lid on social unrest ended in the 5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unemployment wer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s could not figure out how to control both while sacrificing social 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el Jacobo Arbenz Guzman was elected President of Guatem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was land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% owned and controlled 74%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2-law…what did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Frui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company with 550,000 ac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3-Eisenhower supported an overthrow of Arb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Success-initiated by CIA, carried out by right-wing insur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FC regained their land….”Che” Guevara probably began radicalization as a 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43800" y="3124080"/>
            <a:ext cx="126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 Castro (1959) challenged the notion that foreign influence w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determined whether a country was a democracy, an oligarchy of elites or a dictatorship (Marx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offices chose the government that suited them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 and order were alway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liance for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FK agreed to appropriate 20 bi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to counteract poverty and social inequities (breeding ground for commu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…he was assassin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became preoccupied with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3-the OAS disb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role of the Catholic Chu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Democratic Parties were created…what did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became the champ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ir role in politics got them into trouble..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80 they got out of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52320" y="159984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and European countries began loaning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2-LA debt was over 315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il owed 87.5 and Argentina owed 43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I program created issues with local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goods were 300%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es were based on low-value commodities such a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ssion of the late 70’s and 80’s led to less money for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1984 growth in LA dropped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ebt 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ations restructured their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rden of debt increased 9%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.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regimes were just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junta after another resigned from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movements came and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03 all countries of LA had some form of elec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exception of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will the future b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334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llboard in a Cuban street..w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41:57Z</dcterms:created>
  <dc:creator>Danny Root</dc:creator>
  <dc:description/>
  <dc:language>en-US</dc:language>
  <cp:lastModifiedBy>verity aylward</cp:lastModifiedBy>
  <dcterms:modified xsi:type="dcterms:W3CDTF">2010-06-13T19:39:46Z</dcterms:modified>
  <cp:revision>2</cp:revision>
  <dc:subject/>
  <dc:title>Latin America </dc:title>
</cp:coreProperties>
</file>