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528-4F37-48C8-A679-A394849B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1274-9BC0-49C6-B911-6F3CDF04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3439-74B5-4D14-A6F0-2446568F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D3E6-EDEF-4488-BCB5-0AA3B0A1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A086-A95D-49B7-865A-C1EED445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FEFC-93E7-4FBD-A5C1-4D7E73A2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8AF-B67C-4927-8EA3-8E2E9CE3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10A-B353-4180-9F37-CC8E5553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73E-A782-49FF-A443-979B3A4D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942-BE99-4D2C-8E99-82B5003C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EECF-BA54-4C11-95E7-83B945D6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2F3-6F61-46C3-AB86-855C6AB9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8FCD-F8C1-4605-8F72-362399017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ism, Military Regimes…fun stuff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write down thoughts on the following 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feel like it is our responsibility to fund struggling countries? Why or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what you know of communism, do you feel like it was/is important to try and seek allies in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FK’s Alliance for Progress was intended to do just that, how do you feel about such large expendi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your neighbor and answer the following question, please write down your respo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hould the overlying foreign policy be for the current/next Presid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be specific for the time period we are in and justify your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 in communist parties increased by 500% as the Cold War gr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8-the formation of the Organization of American States (O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quarters in Washington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 members had jo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35 independent nations ar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2-Cuban government was excluded as a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s are to strengthened democracy, defend human rights, and promote sustainabl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ttack on one member state is defined as an attack on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 does act independently quite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ras in Nicaragua and the invasion of Pan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 was condemned by other OAS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ember nations maintain ties to Cuba…obviously the US doe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nations needed loans to remain stable (called ISI lo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were eager to show their loyalty because of Cold War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st parties were excluded from political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 loans were being used by politicians…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off disorder and keeping a lid on social unrest ended in the 5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unemployment were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s could not figure out how to control both while sacrificing social wel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43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el Jacobo Arbenz Guzman was elected President of Guatema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was land re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% owned and controlled 74% of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2-law…what did it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ed Fruit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company with 550,000 ac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a major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3-Eisenhower supported an overthrow of Arb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 Success-initiated by CIA, carried out by right-wing insur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FC regained their land….”Che” Guevara probably began radicalization as a resu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43800" y="3124080"/>
            <a:ext cx="126828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del Castro (1959) challenged the notion that foreign influence w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litary determined whether a country was a democracy, an oligarchy of elites or a dictatorship (Marx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litary offices chose the government that suited them the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ism and order were alway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liance for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6688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FK agreed to appropriate 20 bill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ed to counteract poverty and social inequities (breeding ground for communi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…he was assassin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J became preoccupied with Viet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3-the OAS disb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bout the role of the Catholic Chur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 Democratic Parties were created…what did the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urch became the champion of human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ir role in politics got them into trouble..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80 they got out of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52320" y="1599840"/>
            <a:ext cx="5334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and European countries began loaning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2-LA debt was over 315 b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zil owed 87.5 and Argentina owed 43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SI program created issues with local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goods were 300%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es were based on low-value commodities such as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ssion of the late 70’s and 80’s led to less money for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0-1984 growth in LA dropped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debt became a major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nations restructured their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urden of debt increased 9% a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….what happe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tary regimes were just not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junta after another resigned from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ist movements came and w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2003 all countries of LA had some form of elected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exception of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 will the future b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334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illboard in a Cuban street..w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4:41:57Z</dcterms:created>
  <dc:creator>Danny Root</dc:creator>
  <dc:description/>
  <dc:language>en-US</dc:language>
  <cp:lastModifiedBy>verity aylward</cp:lastModifiedBy>
  <dcterms:modified xsi:type="dcterms:W3CDTF">2010-06-13T19:39:46Z</dcterms:modified>
  <cp:revision>2</cp:revision>
  <dc:subject/>
  <dc:title>Latin America </dc:title>
</cp:coreProperties>
</file>