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EC31-AB81-4BAE-9028-1DC8A2BD4C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12E9-9C52-4F47-B1CF-9F7C2391E5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0CD-B4B4-4154-915F-C22DD0F8B7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CDD-185D-4F7D-AC14-000C0D5527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146E-055E-406B-B4C6-59455E1558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76D3-B750-41C1-A640-43DA8C6132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399D-46B2-4CFA-A2B6-3FA40EA0EF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ADE8-2750-40DE-B61C-8CE694C302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321C-4D45-45AE-BF8B-0BDF0BF60E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741-8876-4E9D-97DA-7E3D9C7C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BAA-4E5B-4D71-8FF0-41B95176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54E-BE14-4D5F-9887-AC27378D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0FB-B107-4012-9EF4-EF07BAD9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787B-B27A-4F71-B2DE-DFD683DA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CBE1-B3EB-462B-B113-811F4A86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1889-D87A-4848-995E-519F2546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B04-22C4-4F50-827F-73F7F520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DD0F-4E3E-4953-8411-0E218750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527B-5545-4E7D-B234-923D8213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1B52-37E1-49B6-A743-ED50D00C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35D-2074-496B-A6C5-7C714D84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778B-CB15-403B-9BF1-46E1E6E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57D9-9AB3-48FC-B6B6-24262DEA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7521-3D11-45C6-BB76-021E481E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C503-379D-4E5B-9DA1-01A6B2FC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331F-C776-4248-8886-8197B265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996F2-1486-4F43-8CB3-3FAA1B95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F29D-7ACA-43FD-BDF3-79F3CFD9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65D8-EC1B-4A2F-88B9-59E3DA26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48B1-C269-423C-A3CE-533212A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A72C-29D1-487E-B5FC-273EB983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694-8A38-4672-B43D-F1941D7D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9568-9A3C-45DB-8DC8-2A6E4403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A71C-04B9-4F6E-9A4C-4FB72B5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978F-C30F-4579-8B9E-50E2E12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15F7-DAB5-4A5D-BF63-5EEC397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37E3-9CE8-4513-9219-9C3636DD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C3E1-DEF5-486A-89CD-FAA5A88D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7511-7F74-4FD9-A16F-22B4657C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9DE5-995F-4C6A-8DC8-4668D0C8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127E-AB2A-4807-BBA4-74821FE9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2C96-9059-4494-8B28-EB4E70D5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9D3-77B2-48C0-B004-BAE09645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BF28-6002-41C5-B964-1AF9A793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9243-5B18-4DE6-A2D8-A709FEBA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5ACB-6B45-4409-9BA4-9FE855E9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8978-66C4-4855-87BE-B3CD432F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9380-DF7E-4EBD-A6DB-6443CE0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050F-3312-4CB4-8BCA-13455CE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BB75-A380-4631-AF1E-F954CD89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1D11-E124-4EBE-847F-7C7486C8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4287-0600-4F7E-892E-7C881499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FB7-DF80-4E40-8B63-B5A6706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24C-3FAB-4319-97D0-B135F5DD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ABC-92F6-49D0-A3A8-2509D708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7F3-E4A3-4955-834C-EF059D8C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240-BA18-48D2-B877-EFBB78F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CBB2-91B5-4BF6-A890-F128A75E78DD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2FF5-F6CD-489A-B033-EB2843ECD5CD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76C-F9A0-494E-A306-AC4A7A053A3A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885-E762-40C4-9754-0992D14EEF9A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5440" y="1255680"/>
            <a:ext cx="891720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at determines histo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great 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pivotal mo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al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conomic re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TORY FROM BE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Marxist interpretations: Telelogic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erything moves towards a certain end, a final resu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final result: a classless human socie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at is ‘Historical materialism’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 order to understand human society and historical development you have to study how humans produce and reproduce the material requirements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successfully produce these material requirements people have to enter into ‘production relations’ – the relationship between those who do the work and those who own the ‘means of productio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ages of historical materialis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arxists identified several historical stages of this relationshi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ibal (primitive communis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cient (slaves and slave 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eudalism (serfs and land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pitalism (owners and work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ety (politics, culture, laws etc) is shaped by the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oes society chang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ominant class is overthrown by a new emerging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y was this interpretation different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troduced the idea of ‘coherence’  into human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ggests that historical change is as a result of the struggle between different cl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ined ‘history from below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riticis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20:15Z</dcterms:created>
  <dc:creator>Andy</dc:creator>
  <dc:description/>
  <dc:language>en-US</dc:language>
  <cp:lastModifiedBy>Sha Tin College</cp:lastModifiedBy>
  <dcterms:modified xsi:type="dcterms:W3CDTF">2008-05-05T03:22:28Z</dcterms:modified>
  <cp:revision>6</cp:revision>
  <dc:subject/>
  <dc:title>The Marxist Interpretation of History</dc:title>
</cp:coreProperties>
</file>