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9744-EAAC-4346-A58A-BF59684BF5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DD8D-8576-4363-A0E7-959D993E47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49E0-42B6-4DDC-80E2-97A07B5B71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54C3-8B57-471B-BC31-4402A50D90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DEAE-416B-42D2-9F31-A99D9E2F64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1970-74D3-42AA-97BC-2A2AA87FD2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82F0-2123-4410-A161-2F8DE128C0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7769-B2DB-44D3-8A7C-02EC873A96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2706-ED10-4281-A4A3-44F0D847CF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5A7-1012-4628-A6F2-906D39CE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718-EC1D-479C-9430-28553FFB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700-C5D9-4C41-89D6-7A9B7702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65F-A393-49EE-B24A-82C2248A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28A7-4FD8-44E2-BB2C-4EE88D96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A211-F29D-402C-BD03-AE97463C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959E-FE87-4105-97F9-FE7A1399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B040-2110-43F7-AB27-A98B628E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80DC-DBBD-405D-BB2D-E93D70F1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9604-6F40-4676-8ADC-59D58FFF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20AE-7D65-41CE-BEA2-606D812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A53-8BAA-4DA3-980B-3FB4A89D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7609-53A5-4B55-BA31-0BADBE9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C701-A9B6-4DD2-BE73-B5B046B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F7CF-03AC-4E49-A74B-8EDD70ED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D6FB-1644-4AD8-A0AE-AF8CD18B7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8BC3-D6A9-4724-A490-EC333429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BFD07-69B8-44E0-8AD8-4931E27D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8596-890F-4B3F-9DF4-4D2374FF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8C44-54AE-49D8-9873-6CB061A1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9222-1D55-4A9C-B058-2532FDD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1B85C-822D-4B1A-AB8A-7D2F5789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1E9-BEAA-42EE-BCE1-F0E53808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8D22E-4DC1-40C4-ABD3-22FD7FC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887E-DA16-43E4-8D56-8F049481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9EF47-63E2-43DC-8D87-84663E2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2671-3D43-4E2B-8EA3-414E008B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A99D-9F55-481C-AF3A-8F385A1B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1EF5B-C034-42BF-A17D-64031488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B260-B00F-4D0D-B4F1-9AC064CE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3E9B-8F60-48D3-A5F9-BC1D9BB4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90ECE-2279-4755-88DA-CAE8A377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A7CE-2E8A-4451-A479-D7EDDB1E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368-8DB3-405A-AFAF-6C3FA285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492E1-B5F7-470D-9AAA-4AD77FB8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35C5-5F3E-41FC-BF6E-56A70914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B588-35A2-4209-A4E7-44469149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E5A05-E522-424E-8FD7-23F24301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49E36-6192-4041-AF82-EF3081F3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A1A5-6061-4CB1-ACB2-0C4A99EC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0778-6305-4A50-AAE1-CFA6CFAA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94C77-11EE-4D27-874C-3D746B90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D5FE-9251-4457-ABCA-64EFF5ABE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863-AB3F-4CAB-B058-0CFD30F1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735-BAEF-48E2-B604-B420E2A1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79B-F86D-421C-AA2D-B6CD0BBD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2406-EA80-4EBF-82DB-B015A667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67A-CA73-4365-81D1-9225D6D5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1F9A-FCCB-4616-8989-A06FE3454A72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3E38-5253-4A46-90C1-C45DD0495D48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79D1-C209-47A7-B9C2-C100714C4156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FED7-FDCB-4E35-A907-848455CC7082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5440" y="1255680"/>
            <a:ext cx="891720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at determines histo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great 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pivotal mo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al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conomic re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TORY FROM BE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Marxist interpretations: Telelogic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erything moves towards a certain end, a final resu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final result: a classless human socie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at is ‘Historical materialism’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 order to understand human society and historical development you have to study how humans produce and reproduce the material requirements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successfully produce these material requirements people have to enter into ‘production relations’ – the relationship between those who do the work and those who own the ‘means of productio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ages of historical materialis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arxists identified several historical stages of this relationshi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ibal (primitive communis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cient (slaves and slave 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eudalism (serfs and land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pitalism (owners and work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ety (politics, culture, laws etc) is shaped by the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oes society chang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ominant class is overthrown by a new emerging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y was this interpretation different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troduced the idea of ‘coherence’  into human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ggests that historical change is as a result of the struggle between different cl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ined ‘history from below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riticis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20:15Z</dcterms:created>
  <dc:creator>Andy</dc:creator>
  <dc:description/>
  <dc:language>en-US</dc:language>
  <cp:lastModifiedBy>Sha Tin College</cp:lastModifiedBy>
  <dcterms:modified xsi:type="dcterms:W3CDTF">2008-05-05T03:22:28Z</dcterms:modified>
  <cp:revision>6</cp:revision>
  <dc:subject/>
  <dc:title>The Marxist Interpretation of History</dc:title>
</cp:coreProperties>
</file>