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66B-3C75-4D72-A853-38D4581A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189-683F-4525-8AEF-4F5A85ED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F56-16C5-48FA-9579-54E056CB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8A3D-44A6-4158-A1AC-79478D3D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67BB-5CA0-4F10-8CF9-81B3DFBE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03C7-4BBE-4779-83A2-31EEE7BC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F24A-D9EC-4179-81E7-71CAE8BF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1CE9-6821-4642-9C41-CDCD69F6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0071-A35B-4E1B-90FB-51322928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95D1-E5AF-485F-A517-AFBA8ED0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5661-F373-40A1-A323-B7478B96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8B2-97E7-4025-BA8A-4B2DE341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96B1-1F5F-4BCD-961E-E3B58887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C809-8A58-47BE-A718-61AEF217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684B-A43B-44B5-B7D1-39ACF166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55A4-1B76-4EEA-8A05-14832B73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56DE-2A9F-4BB9-956B-9824D6ED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46BF-9B03-4914-B31D-9A9BDEDE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7E0-8524-4F8F-A215-68644EDA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491-BB0A-4B3A-97A4-FE84484E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3EC-231C-4FC6-A7E7-7C758655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3BA-E6D9-4D2B-94C8-07B21BE0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D8E-EDA4-407E-9F5E-EC03B9D9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478-BF6F-423F-8AD5-2CE1A88D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7FC7-6503-4B35-B898-02B7B49B9A2B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ADED-37EB-498A-A4B5-6CA07955EF97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erdinand_Magellan" TargetMode="External"/><Relationship Id="rId3" Type="http://schemas.openxmlformats.org/officeDocument/2006/relationships/hyperlink" Target="http://en.wikipedia.org/wiki/Ferdinand_Magellan" TargetMode="External"/><Relationship Id="rId4" Type="http://schemas.openxmlformats.org/officeDocument/2006/relationships/hyperlink" Target="http://en.wikipedia.org/wiki/Ferdinand_Magellan" TargetMode="External"/><Relationship Id="rId5" Type="http://schemas.openxmlformats.org/officeDocument/2006/relationships/image" Target="../media/image5.pct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hil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Matthew Wong 12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panish Occupa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Valdivia found little Gold in the count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However it was rich in agricul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Continued exploration west of the </a:t>
            </a:r>
            <a:r>
              <a:rPr b="0" i="1" lang="en-US" sz="2400" spc="-1" strike="noStrike">
                <a:solidFill>
                  <a:srgbClr val="ffffff"/>
                </a:solidFill>
                <a:latin typeface="Times CY"/>
              </a:rPr>
              <a:t>And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Founded over a dozen tow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Introduced Labour System known as the encomiendas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sistanc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Greatest resistance to the Spanish oppresion came from the Mapuche (again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They opposed european conquest till the 1880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Arauco W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Valdivia died at the Battle of Tucap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ndependence 1810-1826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808 Napoleon occupied Spa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de Joseph Bonaparte King of Spai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urpation of the throne from Ferdinand VI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51600" y="1981080"/>
            <a:ext cx="2803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ilean citizens elect Junta on September 10 18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roduced number of reforms leading to independenc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u remained loyal to Spain. Fought war with Chi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ctober 1914 Royalist army defeated the Chileans over Santiag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turn of the K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poleon abdicated returned the Spanish King to the thr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King introduced a repressive regi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ienated the Chilean peop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12 February 1818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2 February 1817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Jose de San Martin defeated the royalists at Chabuc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lly independent from Spain on 12 February 181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984920" y="1981080"/>
            <a:ext cx="3136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arly days of Independenc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967120" y="1981080"/>
            <a:ext cx="320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onservativ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uthoritarian Regi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824280" y="1981080"/>
            <a:ext cx="1495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iego Portal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017880" y="1981080"/>
            <a:ext cx="310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19th Centur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Basic Geograph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tal: 756,102 sq k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untry comparison to the world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d: 743,812 sq k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ter: 12,290 sq k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: includes Easter Island (Isla de Pascua) and Isla Sala y Gome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622840" y="1981080"/>
            <a:ext cx="186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20th Centur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31748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Natural Resourc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CY"/>
              </a:rPr>
              <a:t>Coal, iron ore, nitrates, precious metals, molybdenum, and timb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CY"/>
              </a:rPr>
              <a:t>Mostly obtained thrhough min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ヒラギノ角ゴ Pro W3"/>
              </a:rPr>
              <a:t>_x0010_Basic Histor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12000 years ago native americans settled into the new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Some settlers moved south to the west of south Americ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Now Known as Chi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hilean Societ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Three Grou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1) The northern peopl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2) Araucani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3) The Incans (invaded at around mid 1400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99040" y="1981080"/>
            <a:ext cx="2908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he Incan Wa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The Mapuche (People of the land) mounted the strongest resistance against the Inc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Defeated the Incans at the </a:t>
            </a:r>
            <a:r>
              <a:rPr b="1" lang="en-US" sz="2800" spc="-1" strike="noStrike">
                <a:solidFill>
                  <a:srgbClr val="ffffff"/>
                </a:solidFill>
                <a:latin typeface="Times CY"/>
              </a:rPr>
              <a:t>Battle of the Maule (3 day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84720" y="1981080"/>
            <a:ext cx="273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panish Invas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2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One Century later the Spaniards invaded south americ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CY"/>
                <a:hlinkClick r:id="rId2"/>
              </a:rPr>
              <a:t>Ferdinand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CY"/>
                <a:hlinkClick r:id="rId3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CY"/>
                <a:hlinkClick r:id="rId4"/>
              </a:rPr>
              <a:t>Magellan,</a:t>
            </a: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 first European to sight Chilean territory on November 1st 152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675320" y="2395440"/>
            <a:ext cx="3782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nell Roundhand Bold"/>
              </a:rPr>
              <a:t>Diego De Almargo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2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Title of discover often referred to Diego De Almarg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Organised expedition to Chile in 153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Later died in a Civil war at Per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75320" y="2379600"/>
            <a:ext cx="3782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nell Roundhand Bold"/>
              </a:rPr>
              <a:t>Pedro De Valdivi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Pedro de Valdivia captain of the army saw potential to expand the Spanish Empi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With a few 100 men secured the local inhabitan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Founded the city of Santiago de Nueva Extremadura on February 12, 154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51440" y="1981080"/>
            <a:ext cx="320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6:09:21Z</dcterms:created>
  <dc:creator>TJ  Wong</dc:creator>
  <dc:description/>
  <dc:language>en-US</dc:language>
  <cp:lastModifiedBy>TJ  Wong</cp:lastModifiedBy>
  <dcterms:modified xsi:type="dcterms:W3CDTF">2009-09-17T10:50:17Z</dcterms:modified>
  <cp:revision>31</cp:revision>
  <dc:subject/>
  <dc:title>Chile</dc:title>
</cp:coreProperties>
</file>