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4.pct" ContentType="image/x-pict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C523-6F4A-4217-9585-4841E5F2B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8309-A59E-492B-89EE-D06D42CE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94AC-2196-4743-ACCA-5B8259C99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3364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7652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76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63364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7652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0B12-3E27-4022-B08B-A27C2A603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6724-B0EB-4AEE-8961-6051D7909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68D1-E3CE-4ED8-A2F7-516EEB45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F926-1B5F-42BE-A218-507AAD7C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A29A-16A9-4A80-87D1-6C7876B3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F372-CCF0-4E24-9281-1B8A5DE0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9880" y="1066680"/>
            <a:ext cx="4648320" cy="1095156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3006-743F-4685-B791-6811FEA6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2BCD-8B01-41ED-B72A-BA58F649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DEBC-321D-4A53-B563-9325406C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59CE-2F98-408C-94CF-AB11C54B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DB84-130B-4FF9-91A8-1F68D1C4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E4BA-9182-4ECB-AE56-3CD9B6C5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26AF-2C0E-45AF-9583-0C5F44A55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3364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07652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9076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63364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07652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12A4-980E-4855-ACF5-F75FB1DA5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C809-FBE7-4A69-9F0F-3FAC6DE2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1511-616D-4DA6-B9B5-00C34498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99B5-E822-4901-B1D8-D14733CE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9880" y="1066680"/>
            <a:ext cx="4648320" cy="1095156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958C-148B-4BA4-8CED-3068AF2D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DC7E-6256-4904-A850-06DBD2C3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0024-DBAB-410F-9709-06754370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1423-8ADE-4458-B2F2-617C03D3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FDC3-C4A1-449B-B2D9-EABEBF1687CF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A6BE-5A22-4C27-86AA-5C6F0589209B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erdinand_Magellan" TargetMode="External"/><Relationship Id="rId3" Type="http://schemas.openxmlformats.org/officeDocument/2006/relationships/hyperlink" Target="http://en.wikipedia.org/wiki/Ferdinand_Magellan" TargetMode="External"/><Relationship Id="rId4" Type="http://schemas.openxmlformats.org/officeDocument/2006/relationships/hyperlink" Target="http://en.wikipedia.org/wiki/Ferdinand_Magellan" TargetMode="External"/><Relationship Id="rId5" Type="http://schemas.openxmlformats.org/officeDocument/2006/relationships/image" Target="../media/image5.pct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hil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y Matthew Wong 12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panish Occupation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CY"/>
              </a:rPr>
              <a:t>Valdivia found little Gold in the count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CY"/>
              </a:rPr>
              <a:t>However it was rich in agricul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CY"/>
              </a:rPr>
              <a:t>Continued exploration west of the </a:t>
            </a:r>
            <a:r>
              <a:rPr b="0" i="1" lang="en-US" sz="2400" spc="-1" strike="noStrike">
                <a:solidFill>
                  <a:srgbClr val="ffffff"/>
                </a:solidFill>
                <a:latin typeface="Times CY"/>
              </a:rPr>
              <a:t>And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CY"/>
              </a:rPr>
              <a:t>Founded over a dozen town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CY"/>
              </a:rPr>
              <a:t>Introduced Labour System known as the encomiendas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181480" y="198108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Resistanc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Y"/>
              </a:rPr>
              <a:t>Greatest resistance to the Spanish oppresion came from the Mapuche (again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Y"/>
              </a:rPr>
              <a:t>They opposed european conquest till the 1880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Y"/>
              </a:rPr>
              <a:t>Arauco W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Y"/>
              </a:rPr>
              <a:t>Valdivia died at the Battle of Tucap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Independence 1810-1826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808 Napoleon occupied Spai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de Joseph Bonaparte King of Spai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urpation of the throne from Ferdinand VI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151600" y="1981080"/>
            <a:ext cx="2803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ilean citizens elect Junta on September 10 181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roduced number of reforms leading to independenc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u remained loyal to Spain. Fought war with Chil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ctober 1914 Royalist army defeated the Chileans over Santiag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Return of the King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apoleon abdicated returned the Spanish King to the thro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King introduced a repressive regim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ienated the Chilean peop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12 February 1818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2 February 1817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Jose de San Martin defeated the royalists at Chabuco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mally independent from Spain on 12 February 1818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984920" y="1981080"/>
            <a:ext cx="3136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Early days of Independenc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967120" y="1981080"/>
            <a:ext cx="3209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onservative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uthoritarian Regi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824280" y="1981080"/>
            <a:ext cx="14954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Diego Portale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017880" y="1981080"/>
            <a:ext cx="3106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19th Centur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Basic Geograph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ea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tal: 756,102 sq k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untry comparison to the world: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nd: 743,812 sq k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ater: 12,290 sq k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te: includes Easter Island (Isla de Pascua) and Isla Sala y Gomez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622840" y="1981080"/>
            <a:ext cx="1862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20th Centur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317484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Natural Resource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CY"/>
              </a:rPr>
              <a:t>Coal, iron ore, nitrates, precious metals, molybdenum, and timb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CY"/>
              </a:rPr>
              <a:t>Mostly obtained thrhough minin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ヒラギノ角ゴ Pro W3"/>
              </a:rPr>
              <a:t>_x0010_Basic Histor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Y"/>
              </a:rPr>
              <a:t>12000 years ago native americans settled into the new worl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Y"/>
              </a:rPr>
              <a:t>Some settlers moved south to the west of south Americ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Y"/>
              </a:rPr>
              <a:t>Now Known as Chi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hilean Societ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Three Group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1) The northern peopl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2) Araucani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3) The Incans (invaded at around mid 1400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099040" y="1981080"/>
            <a:ext cx="2908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he Incan War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The Mapuche (People of the land) mounted the strongest resistance against the Inca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Defeated the Incans at the </a:t>
            </a:r>
            <a:r>
              <a:rPr b="1" lang="en-US" sz="2800" spc="-1" strike="noStrike">
                <a:solidFill>
                  <a:srgbClr val="ffffff"/>
                </a:solidFill>
                <a:latin typeface="Times CY"/>
              </a:rPr>
              <a:t>Battle of the Maule (3 day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184720" y="1981080"/>
            <a:ext cx="2735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panish Invasion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2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One Century later the Spaniards invaded south americ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CY"/>
                <a:hlinkClick r:id="rId2"/>
              </a:rPr>
              <a:t>Ferdinand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CY"/>
                <a:hlinkClick r:id="rId3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CY"/>
                <a:hlinkClick r:id="rId4"/>
              </a:rPr>
              <a:t>Magellan,</a:t>
            </a: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 first European to sight Chilean territory on November 1st 152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4675320" y="2395440"/>
            <a:ext cx="37828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nell Roundhand Bold"/>
              </a:rPr>
              <a:t>Diego De Almargo 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2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Title of discover often referred to Diego De Almarg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Organised expedition to Chile in 1537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Later died in a Civil war at Per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75320" y="2379600"/>
            <a:ext cx="37828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nell Roundhand Bold"/>
              </a:rPr>
              <a:t>Pedro De Valdivi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CY"/>
              </a:rPr>
              <a:t>Pedro de Valdivia captain of the army saw potential to expand the Spanish Empir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CY"/>
              </a:rPr>
              <a:t>With a few 100 men secured the local inhabitant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CY"/>
              </a:rPr>
              <a:t>Founded the city of Santiago de Nueva Extremadura on February 12, 154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951440" y="1981080"/>
            <a:ext cx="320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06:09:21Z</dcterms:created>
  <dc:creator>TJ  Wong</dc:creator>
  <dc:description/>
  <dc:language>en-US</dc:language>
  <cp:lastModifiedBy>TJ  Wong</cp:lastModifiedBy>
  <dcterms:modified xsi:type="dcterms:W3CDTF">2009-09-17T10:50:17Z</dcterms:modified>
  <cp:revision>31</cp:revision>
  <dc:subject/>
  <dc:title>Chile</dc:title>
</cp:coreProperties>
</file>