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C9C0-C7AE-4464-9962-4FF5B72D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FF91-C517-433B-8C51-A74D271C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D374-6990-46A0-BE67-E404CF72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F3D6-5C81-4AA5-8BB7-73FCA26B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914E-0991-4B25-84F9-DF432E16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B2E1-91FD-413F-9839-CF00AB5C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ADEE-3B76-4A5D-98A7-C47FA331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F5A1-066C-4591-8556-D08FFB3D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067E-3565-4AAC-B030-5707CA6D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B9C2-5172-41A5-A27C-2BD9BCC4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12C4-CE6C-4C04-B095-71E9C682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CE85-F388-47DF-8081-78A5E2C2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4159-11DA-4059-90AD-DE5455A9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CB34-A547-439C-9D22-46749A3A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B6A4-A088-437E-83AC-C814823F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8A01-202B-4ACE-9D58-7F1B4EED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77B3-CF78-4CF9-891D-D3091886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4D9F-5063-4754-A93C-15B0C874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7948-3D57-4865-AD83-5654432A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2570-4103-48AB-843F-44F5E4C1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3C91-755F-42EB-BAC2-DCB61486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A91C-F6BC-4BE5-A1E0-74FCDB13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89C-E659-4DAE-9F35-EDADC354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4691-D6F0-4D9F-BA20-64BC5D8B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816A-51BB-49BB-A1E6-25AFFB920B0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38A0-D82F-46C8-B78E-F777349EEAB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actors that led to the rise of Castro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s of identit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ailure of traditional political system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anish Coloniz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nish colonization (1492 – 180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nish-American wa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eaties of Paris – gave USA control over former Spanish colon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nish massacres of Cuban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merican Exploi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A military rule under the Teller Amendment – 1898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tt Amendment – limits Cuba’s sovereig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oitation of land and resour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he feeling of loss of identity helped Castr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panish colonization and the USA exploitation of Cuba created a long term resent for foreign interven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stro promised a new independent Cub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ve people hope and self este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tista’s First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tista launched a coup in 193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uled from behind the scene 1934 – 1940 through succession of puppet presi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ame president himself in 194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 oppos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ever more peaceful than his second ru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tista’s Second Rule - Dictatorship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turned to power illegally in 195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ickly became a dicta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 political freed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ck elections in 195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popular, met growing oppos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cially unsuccessful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gh illiteracy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using and medical care too expens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ural areas suffered the m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ut the economy improv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vana became known as the “Latin Las Vega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uctions projects – many jobs crea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wth of tour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e 1950s Cuba was the third developed nation in the Americ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w the failure of political system helped Castr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ccession of corrupt governments, lack of democrac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ti-Americanism stance – land refo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ng term violence and oppression - Spanish massacres, then Batista’s violent reg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nging for a new, strong leader which is just what charismatic Castro stood f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0:50:14Z</dcterms:created>
  <dc:creator>Delphine</dc:creator>
  <dc:description/>
  <dc:language>en-US</dc:language>
  <cp:lastModifiedBy>VRA</cp:lastModifiedBy>
  <dcterms:modified xsi:type="dcterms:W3CDTF">2008-10-28T00:48:05Z</dcterms:modified>
  <cp:revision>18</cp:revision>
  <dc:subject/>
  <dc:title>Factors that led to the rise of Castro </dc:title>
</cp:coreProperties>
</file>