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0F8EF-042F-4DF7-B961-FAFCAD9E1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32904-6ACB-4144-AFA0-C1FAD5B32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58F2A-A9B9-4510-AD9E-E91912391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3ED72-4B8A-48CB-B038-F1CDC30CC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476FE-6506-484C-9E4B-43266BCBA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07D23-7AB6-44D2-BCC1-3C42AFAC4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A959C-774A-4A31-8FF1-0BDF5D896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B78E6-E9F6-4A67-B625-D2C6F791A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35436-03C5-4348-B652-ED52E6D10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379C6-9287-46F5-A116-E4AD858EF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4A042-190C-40DC-A2F8-50ABF64A7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A008B-A5D5-4AC5-ABD1-8BA47D920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C20F9-9FD1-4E87-BD67-7E8CDE7CC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CF2C3-2307-48FC-90F7-38DDC9127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2A666-9A0C-4641-816C-4C76134E9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993EB-7405-4DF0-82EE-55D3360C9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FC02D-506E-4EFC-8D31-021EED231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C22AA-2D12-413D-B0D1-F91C7842A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7B093-13FC-41E1-85CD-5DEB0C9E8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55183-4D0A-4B92-BC97-47A3A58C9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D6EA5-2CDF-421F-8DDE-DC06CE5B2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9B661-D4C5-4E96-AF2B-92DA75C3B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636F0-479E-48CE-8F28-547A2D9A4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E99AD-1E87-4375-B4BF-AA69F4687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15D7B-2F48-434C-8EA0-A468CE355647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0C9FC-B073-43EB-BFD1-71684446FA56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Factors that led to the rise of Castro 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Loss of identity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Failure of traditional political system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panish Colonization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panish colonization (1492 – 1800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panish-American war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reaties of Paris – gave USA control over former Spanish colonie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panish massacres of Cuban peopl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merican Exploita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USA military rule under the Teller Amendment – 1898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latt Amendment – limits Cuba’s sovereignt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xploitation of land and resourc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How the feeling of loss of identity helped Castro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Spanish colonization and the USA exploitation of Cuba created a long term resent for foreign intervention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astro promised a new independent Cub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ave people hope and self estee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Batista’s First Rul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atista launched a coup in 1933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uled from behind the scene 1934 – 1940 through succession of puppet presiden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ecame president himself in 1940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et opposi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owever more peaceful than his second rul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Batista’s Second Rule - Dictatorship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eturned to power illegally in 1952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Quickly became a dictato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o political freedo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ock elections in 1954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Unpopular, met growing opposi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ocially unsuccessful…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igh illiteracy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ousing and medical care too expensiv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ural areas suffered the mos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…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but the economy improve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avana became known as the “Latin Las Vegas”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nstructions projects – many jobs create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rowth of touris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 the 1950s Cuba was the third developed nation in the Americ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How the failure of political system helped Castro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uccession of corrupt governments, lack of democracy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nti-Americanism stance – land refor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ong term violence and oppression - Spanish massacres, then Batista’s violent regim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onging for a new, strong leader which is just what charismatic Castro stood fo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30T00:50:14Z</dcterms:created>
  <dc:creator>Delphine</dc:creator>
  <dc:description/>
  <dc:language>en-US</dc:language>
  <cp:lastModifiedBy>VRA</cp:lastModifiedBy>
  <dcterms:modified xsi:type="dcterms:W3CDTF">2008-10-28T00:48:05Z</dcterms:modified>
  <cp:revision>18</cp:revision>
  <dc:subject/>
  <dc:title>Factors that led to the rise of Castro </dc:title>
</cp:coreProperties>
</file>