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E56-161C-4367-890D-BFC7E8C4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76A-FB9D-4EDA-BD48-2B1CBC71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758-2899-429D-9832-3BE19508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66A-92F1-402C-9F8B-35D71B76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8E5F-D270-452C-98EF-9D2DB5A9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C03-298B-417E-91DC-4D44696F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3A9A-F5A2-4C2A-A5F7-D8C08FFB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CC46-5DCB-488D-B57E-B8E27E01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4CDB-531A-4CA8-AF7B-0A1B262C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84D2-B5A2-407A-96F4-81787E92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DE27-EC57-4B65-833E-FC8B141C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F77-A975-4CCD-A823-BC2799D9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D6AF-5DD7-46E3-8E5D-F8DDB356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27F4-A083-4A89-B994-8A79D2F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5CD7-15E9-4C5F-B876-1E0C3151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A5C9-591A-4329-B24E-D0465C4B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612F-93FF-4A29-B403-D215ABB6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C0D09-17FA-420A-BCF1-5F74C7F8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AEEFE-9A1D-4FE2-B23F-ADB52A45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EDC9F-8981-427A-BD71-4BBF6A4E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5E070-4F59-44C5-A08C-A9A24C8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89C658-5CAC-48D8-B4A7-04627D8F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0C5-E9C9-4EDF-BF15-C33F8B5D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A2A79-A616-475A-BE78-ADF8355F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C0835-F2C0-44EE-A35A-2E5BC29D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41A36-05F3-4FCE-B5A5-C345C05F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3E5AFC-AB9D-492E-A770-7DFCB952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9769C4-8679-4347-9066-9837E34A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04CC53-8027-4BF8-86A6-91E809ED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36282-D018-4526-8B2A-DFAA6D80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82187E-0760-44D0-9441-BBBC12CB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17E76-B1EE-4A70-AC5D-F5A4B300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1E1C2-C5A0-458E-85E4-43F01E86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D0C-7497-4176-9F61-1EA101A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74919-99AD-472D-AE44-A8EC3BF1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6320A7-18ED-41C4-B9BE-7945AD2A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DA6A9-AE56-4B0D-BA04-61348B57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C59B75-AC41-4D21-AFDE-A3DBB377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E2AE0-F8AF-4EA3-97F5-46BFACD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F899D-6A5F-4387-841C-7A9BD5F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8D867-6640-42ED-ADB6-542752F2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CE433-65DE-4DCD-A6F0-2303DA21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7C6940-6DCF-41EE-AA6F-51DDB6CC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0DED90-601B-40F9-8DEF-D7473080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799-EB63-4EFF-946A-B40D5E67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757BDB-A311-46D7-8892-5C4E8313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3199E-B1D2-4634-9637-C3F1073F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0E2BA-2C34-44EE-879B-EE382AD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3A4E76-EC4C-4EDD-BB9C-FBB31458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E63DC-DCAA-44D6-968C-93F41A37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59AB1-DCF6-4957-B089-D6EA191E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033C8-43A2-452C-8DAF-7E09C473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849562-99A8-4DAE-9DDA-48A5E82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8E880-045D-4AD0-8CCA-AAF53D9C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78A333-968A-4077-9AA3-15C007ED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68C-D4E2-4EBA-A53B-DBBD568E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A29725-A1F9-4FBC-AF29-F886C047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4D63F-B74B-454B-B89C-F5516148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57254-0138-41AE-B203-745CDB2F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0BEF7-76A4-469F-AF17-60808067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3EAD4-4F7B-4FF4-869E-2B6C6E27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BDE8E-BA9C-4096-AEAA-759DB8C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653F1-4152-4A19-B84D-9422D2B2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A0E08-DA26-4450-9B54-873FCC38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448F7-4141-434F-97AB-74134930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70BA2-EF73-4BAB-A45E-5D9FA09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A7E-49F0-40FD-ACA2-6EFBD491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2EA69-1209-4B81-BC67-6FA4535E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31451-5ECA-457F-928F-7A27E3DE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18AEA-0BF6-45F1-8E55-402408D7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92E32-5A28-426E-97F6-CF6FD0BE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7870A-764A-457C-B79F-E9A334DE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385B2-5C1F-4F7E-BC03-DC4DF81B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09659-B831-4C32-925D-2602CE01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AD46D-4685-4CE5-9E35-AB5B00DF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892547-88D3-481C-9D7E-DFFA3E15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C2546-FBCD-459E-8A45-9136199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4697-A82E-4764-AD32-26C99D79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5D3464-F74A-4A00-9965-B9350184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ACFE5-FD39-41BD-8F80-1AFB5D4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A18348-6429-4564-B2D1-D0EFF647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9707E-AB3E-4BA2-B69A-7C92961C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45D29-5647-44E6-94E5-B65D8007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5D353-8C6E-485B-B8C7-26E314B0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609D0-4EC4-4EA0-B398-2362E7EE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C4DFB-C916-48EA-BC7E-68CB6107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F6D12-9233-40A3-A074-10B88D22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52BC-38FC-493E-9F59-6F009F3A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2E55-FD11-4F4C-AEB3-BD27D51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8DE89-45F6-4563-AF9A-AD4DBB20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FFC27-BCCB-49EB-9B29-161E719C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F1BDF-7072-45E8-8C89-06EEFCA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37145-5C19-4DC8-8997-3ABB18D8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9819-5F76-4E42-B0CF-B4D5BC6F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389BB-5F3C-4504-A730-85D07F24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045D-489C-4055-BFF9-6BD17B55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CCDC-D0C8-46C1-BA9C-B412ADA26826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6FB-DD7C-4F84-950B-DDE52531EE6B}" type="slidenum">
              <a: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D216-928F-42BB-B6DF-A38DF6ED1A36}" type="slidenum">
              <a: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7FB7-920C-4BC7-907C-AC12D29CD314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2958-249D-4A9E-83BD-E323D6286BE8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B277-9916-4A77-B4D0-B5BE1B18FAF4}" type="slidenum">
              <a: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4BCA-8B06-4F5C-AF81-1050D719307E}" type="slidenum">
              <a: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D26D-D8CC-46D9-88D4-AC8E548CF469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  <a:ea typeface="新細明體"/>
              </a:rPr>
              <a:t>CASTRO’S RISE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  <a:ea typeface="新細明體"/>
              </a:rPr>
              <a:t>The Economic crisis that lead to Fidel Castro’s rise to pow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The Economic Situation 1930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came to power during the Great De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reat Depression devastated the economy (U.S. influence accentuated it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Sugar prices in 1928 were at $2.18 per pound, dropped to $1.72 per pound in 1929. By 1933 a pound of sugar sold for $0.57 per poun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employment/Starvati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Population increase meant people had inadequate hou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d living/sanitary condition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encouraged the diversification of Cuba’s econom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specialized in sugar production since the 1700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Diversification took reserve that the Cuban government did not ha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dustrialization was focused 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Agricultural workers declined 1953 – 60% labor force was nonagricultur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American Involvemen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involved in Cuba’s internal affairs; economically and political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promoted investments on U.S. companies (controlled key industries e.g. electricity, water etc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controlled greater part of Cuba’s resources including sugar, mineral rights, public-utility concessions, cattle la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Platt Amendments let U.S. operate military bases including Guantanamo Ba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businesses owned 32% of Cuban sugar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ented by Cubans since their own businesses could never prof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ports and Imports controlled by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trictions were placed in price changes on exports and im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Government Expenditur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spent government funds on roads/promenades/monumental buildings etc instead of significant investments such as schools/healthcare/housing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o show power and weal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 failed to invest government funds wise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ought radio station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160 stations in Cuba compared to the 60 in U.K. 50 in Fran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23 T.V. stations in Cuba compared to 12 in Mexico, 10 in Venezuel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For Propaganda; censorship; show wealth/pow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219320" indent="-304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Economic Corrup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liance on touris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offered incentives for businesses to invest in Cuba especially hotel investments which apparently increased tourism to lead to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his allowed gambling establishments to inhabit Cuba which contributed to the eventual moral degradation of the regim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enerated resentment among Cubans, average Cubans not allowed to use these facilities nor did they profit from these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Only Batista profited from bribes from these business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placed sugar production as Cuba’s key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Mafia-run casin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ited States mafia leader Meyer Lansky in the 1930s would pay Batista millions of dollars in return for control of Cuba’s casino industry Havana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Havana lost its culture when it was opened to gambling, organized crime, tourism and prostitution (new Las Vega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  <a:ea typeface="新細明體"/>
              </a:rPr>
              <a:t>Disconnection of U.S. involvement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astro severed all ties to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established  close ties with the USSR (Import soviet oil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severed all trading relations with Cuba (Without U.S. trade restrictions, Cuba recovered a steady flow of income through trade)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was able to fluctuate and experience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굴림"/>
              </a:rPr>
              <a:t>Why was this Factor Important?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Economy: important for su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Standard of living brought dow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Ineffective policies from Bati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People unhappy; wanted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Batista’s popularity decr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3:57Z</dcterms:created>
  <dc:creator>student</dc:creator>
  <dc:description/>
  <dc:language>en-US</dc:language>
  <cp:lastModifiedBy>Unggy</cp:lastModifiedBy>
  <dcterms:modified xsi:type="dcterms:W3CDTF">2008-10-27T18:45:57Z</dcterms:modified>
  <cp:revision>12</cp:revision>
  <dc:subject/>
  <dc:title>Castro’s Rise</dc:title>
</cp:coreProperties>
</file>