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CC7-C524-4D9F-98DE-DC3EBE29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DF1-198C-40FC-BA64-06555460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ED8-D0AD-4585-BD94-189AC90F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54C-3A7E-41CC-A268-342E86F0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45C8-7767-426B-953F-34F51C7C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C83C-7199-479C-A2EF-8D81B6EB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A796-8302-4AC8-9981-C9EDFA40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FF60-B4BA-473D-A0A3-60864ACB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6F54-E24F-4A3B-A2FF-E7276052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989D-AAE2-4C59-9F1A-DF602C8F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3674-A2BA-4960-9179-320C9769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EB4-F7A1-4689-BF1B-DC7B01E7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937E-B20C-4B21-B1D2-F8694A5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787C-3F9F-474B-B99E-62C364EB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3CA3-299B-4FCE-A9A4-3EFF0530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704E-D520-4223-A50F-F9D82760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01A5-012E-45A2-B547-763CCE46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E5382-4EDF-408C-8667-79B3B01A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4D0F9-5F02-4378-9ADD-F68D483B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97938-F6A7-45DB-B8FC-20ADBDD9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4E870-1DB2-4C96-A03D-C7F11D06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88989-28AC-450F-BC64-E1876C8E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36E-0D5B-4F18-A953-4DFC13FF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477C9-7FD5-4160-B2B3-104D06E4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8A4883-82DF-49A4-A760-0F0098A3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72475-1055-47B9-9548-E5273016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B75B8-86EB-49BC-91E5-E78291E6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96997-11A9-4E3B-9981-3E04D61E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0DD14-F327-4212-B868-223EFD2D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6E1B53-0274-44E2-896E-06D27F22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0670E-8D7C-4979-A65F-FAA61539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7268F1-B98D-4A86-95A0-9C20090D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04910-21CA-47BC-A1A8-DF83ACA9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29A-E34C-4809-9743-2DDCF809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CB285-E80A-42EC-AD0B-F8E625A9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3B442-CF2B-4B57-A590-24B9852C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AB5BF9-0F0B-41BF-9A32-D68B0C83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A961C-E015-404C-8AE3-E6E7D88B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BD8867-3204-4026-A3C4-F42275C3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CB4A4F-8EB6-48FD-9311-AFDA701B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6AB308-BCEC-44DE-BC94-104E0796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D9634-6F48-42C4-A5E0-A2FC30BB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AA92C4-418D-4676-B71D-C71A0029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EC71F-BAE9-447D-A501-340A9D74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AF5-3400-4CC7-87C0-67516046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CC5EE9-105C-46BB-85C5-4E36C247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7B753-FC51-416C-A0AA-47DAD3CA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6E1E8-E9CA-476F-A41B-4300B0CD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D9998-6120-45E5-8A1C-9E51F3C9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A407C-A777-4733-B959-D2229B49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538D08-DE48-4E4C-8CDB-696DAAAE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6B20B-47BE-49CF-81A0-60ECDBF1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D1874E-BC92-4A69-82C8-535B1C6E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5FCECA-39A8-40C8-AEC5-BD6BF78C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E2171F-5330-4851-A7BD-A0E48A5F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663E-4AEA-4273-991D-5544B364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5B3A0-88F3-4E85-884C-13EEC97B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69C5E-27A1-48F9-9845-E983F7BF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BD33A-C9C1-4BB2-8083-F2D1978A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4D461-B4D1-4D3A-8A9C-F0757B74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DB4E9-B79B-41B6-8B7B-85A413CB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38309-39CE-40DC-8E71-7E473C57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C7550-B1B0-4FF3-9916-8D22CB8B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565B8-DE2D-4610-B030-1495D17F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17E23-7ABC-474C-B270-BB2A644C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4629C-DD21-4137-9D96-EDE6AEDD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C8B-5351-48E3-88AC-9C4F339E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49123-45DC-4C46-AD76-A8457758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BDDFB-D4A3-460F-9264-A514B0EA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456BF-4208-436B-9F77-A05DDF14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B6F116-5051-437F-A46F-585F0FF9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DEB78C-9A87-4196-9CAB-5EBB9D70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368DAC-D975-4C73-989F-E79C8A7E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47D3B3-16EE-40D2-A414-F49A3DF3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AD0C11-F270-4F01-AD08-C10FAF24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085251-DC2A-4C8F-A0E9-B92C9A61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409A30-9304-4C57-B591-9E042F0B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B0B-AADD-402F-B4C6-3DA83438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CF1BC1-BB76-4D5B-B678-48564C09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B352B7-FD8F-4CA4-8BF1-44769A3A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B1224-F00E-4FD4-B638-D06CC98A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7E0F8-8F03-46B8-A1F8-8F9B1978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D19A0F-FD1F-439F-A6CC-CC59C431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A0CF2-3499-4195-8856-AEDB1912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5499C-0EE9-47AA-B781-9DE01A09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2B630-F15B-4BFC-8623-40385D2D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2C982-F6FA-4B65-B02E-4A104A7B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F7153-F818-41EC-AE6D-0B545563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F63-D8C6-4CE6-A660-744FD2C1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C74D0-49D1-4006-86EF-2895D2BA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F98DE-DB9C-435F-9B65-55F8A829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A89D3-E4BC-49D5-97B9-7C47D078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19DA6-F061-4AE8-B904-B8EF9AE3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0260E-25AC-4A69-8909-4E8BBC0E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CD5CC-7726-4FDC-9777-8804D391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21000-57EE-4510-807E-A0378A88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9C08-35DF-44D1-9643-C4B1D9B9EAB9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d6ec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6D62-3408-4CCB-A6BD-2404ECC49FE8}" type="slidenum">
              <a:rPr b="1" lang="zh-TW" sz="1400" spc="-1" strike="noStrike">
                <a:solidFill>
                  <a:srgbClr val="d6ec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8838-566C-44EE-AE19-D9C00F0FD8E1}" type="slidenum">
              <a:rPr b="1" lang="zh-TW" sz="2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6E52-BA4F-4C60-810A-7F2A1823DC9C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BC56-F7E0-4F4D-87FB-12B283782701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4e5b6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6D89-B796-4742-84E9-F593B7038EED}" type="slidenum">
              <a:rPr b="1" lang="zh-TW" sz="1400" spc="-1" strike="noStrike">
                <a:solidFill>
                  <a:srgbClr val="4e5b6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8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9E10-FDAC-4D93-A68A-9512ED509557}" type="slidenum">
              <a:rPr b="1" lang="zh-TW" sz="28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CD6C-1E74-4673-9A54-1D86136D0CA1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  <a:ea typeface="新細明體"/>
              </a:rPr>
              <a:t>CASTRO’S RISE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  <a:ea typeface="新細明體"/>
              </a:rPr>
              <a:t>The Economic crisis that lead to Fidel Castro’s rise to power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The Economic Situation 1930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came to power during the Great Depress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Great Depression devastated the economy (U.S. influence accentuated it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Sugar prices in 1928 were at $2.18 per pound, dropped to $1.72 per pound in 1929. By 1933 a pound of sugar sold for $0.57 per pound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nemployment/Starvation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Population increase meant people had inadequate hous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d living/sanitary condition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encouraged the diversification of Cuba’s econom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’s economy specialized in sugar production since the 1700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Diversification took reserve that the Cuban government did not ha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Industrialization was focused o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Agricultural workers declined 1953 – 60% labor force was nonagricultur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American Involvemen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involved in Cuba’s internal affairs; economically and politicall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promoted investments on U.S. companies (controlled key industries e.g. electricity, water etc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controlled greater part of Cuba’s resources including sugar, mineral rights, public-utility concessions, cattle land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Platt Amendments let U.S. operate military bases including Guantanamo Ba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businesses owned 32% of Cuban sugar indust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sented by Cubans since their own businesses could never prof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Exports and Imports controlled by the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strictions were placed in price changes on exports and impor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Government Expenditure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spent government funds on roads/promenades/monumental buildings etc instead of significant investments such as schools/healthcare/housing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To show power and weal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 failed to invest government funds wisely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80880" indent="-38088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ought radio stations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160 stations in Cuba compared to the 60 in U.K. 50 in Franc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23 T.V. stations in Cuba compared to 12 in Mexico, 10 in Venezuel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For Propaganda; censorship; show wealth/powe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219320" indent="-304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Economic Corruption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liance on touris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offered incentives for businesses to invest in Cuba especially hotel investments which apparently increased tourism to lead to economic grow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this allowed gambling establishments to inhabit Cuba which contributed to the eventual moral degradation of the regim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Generated resentment among Cubans, average Cubans not allowed to use these facilities nor did they profit from these invest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Only Batista profited from bribes from these business invest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placed sugar production as Cuba’s key indust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Mafia-run casino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nited States mafia leader Meyer Lansky in the 1930s would pay Batista millions of dollars in return for control of Cuba’s casino industry Havana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Havana lost its culture when it was opened to gambling, organized crime, tourism and prostitution (new Las Vegas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w Cen MT"/>
                <a:ea typeface="新細明體"/>
              </a:rPr>
              <a:t>Disconnection of U.S. involvement</a:t>
            </a:r>
            <a:endParaRPr b="0" lang="en-US" sz="40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Castro severed all ties to the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established  close ties with the USSR (Import soviet oil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severed all trading relations with Cuba (Without U.S. trade restrictions, Cuba recovered a steady flow of income through trade)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’s economy was able to fluctuate and experience economic grow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굴림"/>
              </a:rPr>
              <a:t>Why was this Factor Important?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Economy: important for succ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Standard of living brought dow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Ineffective policies from Batis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굴림"/>
              </a:rPr>
              <a:t>People unhappy; wanted chang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굴림"/>
              </a:rPr>
              <a:t>Batista’s popularity decrea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0:53:57Z</dcterms:created>
  <dc:creator>student</dc:creator>
  <dc:description/>
  <dc:language>en-US</dc:language>
  <cp:lastModifiedBy>Unggy</cp:lastModifiedBy>
  <dcterms:modified xsi:type="dcterms:W3CDTF">2008-10-27T18:45:57Z</dcterms:modified>
  <cp:revision>12</cp:revision>
  <dc:subject/>
  <dc:title>Castro’s Rise</dc:title>
</cp:coreProperties>
</file>