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A39-AC26-487C-844B-5E426DD3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186-1FD8-433B-940A-4DED9BEB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26E-A285-4E57-A7D5-E8CD3145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869-D9F9-4A10-BCE0-7EE9DD2E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4806-0357-49E1-89EB-80378845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B3C9-49CD-4314-8F7D-EC9EEF8A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9346-DE7A-41E9-8DAA-06706902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65C3-C3AA-4438-8215-E94AC7C9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877B-E1A9-4CEF-AC23-0925C0E5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F031-FA87-42BC-B981-A12C0794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51B2-C136-434A-8B74-5CABC15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CEB-3915-4C5C-8C47-985E587A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71F4-80EC-40E2-8044-287874B3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2136-831C-49A1-98F8-0DE5AF9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D2BA-BFF7-428C-AF7E-5127CFFF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BE9A-E586-4C58-9D17-857D10C4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7777-4641-4516-BEE1-4783AF56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BB847-9E68-4E36-9EF9-AED1B17C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AE0F1-6958-4DF5-8466-948261E5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A9217-E9E6-40F7-A648-CC3F4F00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D0D7C-8453-4571-ABDA-7535A704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2A1AA-1EB8-4801-B471-4A71FA8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460-2D7E-4250-B58C-9DAF361E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09484-9BBB-4A23-B4AC-C5C3542B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AA428-9A7C-4A4B-A247-97AD22A7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57A4C-3E7A-4E78-828E-83A49BA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DCD10-90AA-42A1-8735-C3077214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75CC2-3900-4F39-9751-6C43897F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38BAD-0C1C-4D98-BD69-EEBD0AF1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D64DE-9EA7-4144-8FC3-E4103764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A18B7-B7EC-45B0-896B-74F98670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69827-3DE0-476E-A3EF-B70F4B95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A4196-B2B7-4B02-96D5-948D45D1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721-0E1A-4A90-9510-83E5B9DA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3CDB4-A1D6-450F-A529-74E27BF1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FA2553-7E13-4F52-8ECA-B9BE715B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8E599-C493-4C7A-8CB6-07EA1BB4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FF5D97-60AC-40F2-AF4D-593CDD8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EFCDF-2D91-41E9-AFD2-DEDD834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4BDD9-C82C-4D81-9037-7A78779F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BD714-2AB4-4FC6-9FEB-B1B35445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F7152-92AE-4BEE-BC9C-B84D1582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4875B-59F1-4F55-9656-00BEF108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E406E-3CB5-49D6-B086-70CED127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E11-1400-4F11-8E8C-F665E07A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2A9F8-94B1-4957-B869-AFB0E70B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4E602-3431-429B-B5EE-6529F880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2E7E7-404E-4CEE-BEAE-A89A90B5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4873D-0584-4013-8852-99BD6B5F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3AC72-CEAB-4A11-936F-37F3C42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43839-1BB8-47E0-B064-1868A520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CBA44-51B5-40D8-AF31-E06BC8D0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B711B-0251-456C-9E10-1083CEDF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F56BE-D0EE-4BA4-8346-726FF797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9D472-1EC3-4781-A9EE-C4024754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B0D-0120-47F2-82D1-54EDCCF9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82E6D-5735-4255-B4D7-776D318A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CFC4E-DD17-4029-9302-28C9CCCF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33EFE-ACE5-49E2-9976-9FBA12FA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23EB-4EBA-436F-911F-1EB5F403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F40DE-BBD3-4911-BE47-F127EB0A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FEFB-BF5B-41C8-97C2-1B5F1EC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E4687-6AFC-491A-91E5-0FB9E486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BBFD-B097-4722-A1FF-1A853A87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7EBC-E7D6-4578-8856-85E0483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90EA-0D48-4B46-B417-6B32F351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11B-8FDC-4677-99C7-D6B2781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4F09-E568-4058-B6B7-0138F20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34F9-CD73-430F-882F-F550CBA4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63531-3E16-417D-A243-36EF2E0F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6746A-E964-461F-BD00-2AC6DB38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D0CF0C-B789-4724-AEBE-1B7A1F4D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8F55C-34B4-423B-B1DA-5A3AD94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BDE67-BD5A-428B-9704-E0817EB3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72AD0-7717-4244-9A0C-E807B7B8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2EE13-3BD4-418C-9091-B1E0F518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34B71-1E27-4577-856B-E1F7FFB5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BEF-70B6-4F98-AC7E-5B059C9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8DF23C-7CE9-43D4-8D7A-AAD30A50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ACE80-1E8E-4482-8105-54AD3FF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54269-D5A4-4110-B5BE-9C8E4D13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69A5A-86E7-494E-B515-A224A19D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6CD5C-8893-4B21-A3A3-3276537E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0A411-7079-43B2-B21F-9BBB4610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1D05B-2738-4FB6-B368-77DA9D94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DF1D-A629-4DB0-90E3-603D98FD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07AF9-EB00-4D44-91FB-5E2A121F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82627-69B3-4844-9060-3D707D0E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7C4-7E24-4ECF-9F78-738BF650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A3023-C5F1-4769-B10E-03E5F599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A777-5582-4E87-8F60-E0172027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785DE-9344-44F2-AA21-5CB42838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BB6C-D88F-41BE-8662-10042402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C73C3-52BA-4C52-8162-58238EF8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DD05E-A246-49E6-9A08-252A38B3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A941A-4495-4D26-8EA4-F5667D60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E5AD-FAB8-45A7-9666-53871DA5FF7B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B7A9-27CF-4EE6-8A2D-539744C05FD1}" type="slidenum">
              <a: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883C-74C5-483C-A03C-D63E8B764937}" type="slidenum">
              <a: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1FE6-CD3D-41D3-A876-F1F614CDB500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482A-DA46-4B58-9588-49C46CABEEFB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211D-0E22-4DC4-82D2-28357857C41B}" type="slidenum">
              <a: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BFAF-8935-4637-A7FE-03B0EEB53CCC}" type="slidenum">
              <a: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32D2-A9B0-4F45-8A3A-6A356B0AEDF7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  <a:ea typeface="新細明體"/>
              </a:rPr>
              <a:t>CASTRO’S RISE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  <a:ea typeface="新細明體"/>
              </a:rPr>
              <a:t>The Economic crisis that lead to Fidel Castro’s rise to pow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The Economic Situation 1930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came to power during the Great Depre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reat Depression devastated the economy (U.S. influence accentuated it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Sugar prices in 1928 were at $2.18 per pound, dropped to $1.72 per pound in 1929. By 1933 a pound of sugar sold for $0.57 per poun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employment/Starvati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Population increase meant people had inadequate hou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d living/sanitary condition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encouraged the diversification of Cuba’s econom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specialized in sugar production since the 1700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Diversification took reserve that the Cuban government did not ha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dustrialization was focused 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Agricultural workers declined 1953 – 60% labor force was nonagricultur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American Involvemen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involved in Cuba’s internal affairs; economically and political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promoted investments on U.S. companies (controlled key industries e.g. electricity, water etc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controlled greater part of Cuba’s resources including sugar, mineral rights, public-utility concessions, cattle land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Platt Amendments let U.S. operate military bases including Guantanamo Ba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businesses owned 32% of Cuban sugar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ented by Cubans since their own businesses could never prof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ports and Imports controlled by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trictions were placed in price changes on exports and impor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Government Expenditure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spent government funds on roads/promenades/monumental buildings etc instead of significant investments such as schools/healthcare/housing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o show power and weal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 failed to invest government funds wisel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ought radio station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160 stations in Cuba compared to the 60 in U.K. 50 in Fran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23 T.V. stations in Cuba compared to 12 in Mexico, 10 in Venezuel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For Propaganda; censorship; show wealth/pow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219320" indent="-304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Economic Corrup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liance on touris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offered incentives for businesses to invest in Cuba especially hotel investments which apparently increased tourism to lead to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his allowed gambling establishments to inhabit Cuba which contributed to the eventual moral degradation of the regim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enerated resentment among Cubans, average Cubans not allowed to use these facilities nor did they profit from these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Only Batista profited from bribes from these business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placed sugar production as Cuba’s key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Mafia-run casin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ited States mafia leader Meyer Lansky in the 1930s would pay Batista millions of dollars in return for control of Cuba’s casino industry Havana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Havana lost its culture when it was opened to gambling, organized crime, tourism and prostitution (new Las Vega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w Cen MT"/>
                <a:ea typeface="新細明體"/>
              </a:rPr>
              <a:t>Disconnection of U.S. involvement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astro severed all ties to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established  close ties with the USSR (Import soviet oil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severed all trading relations with Cuba (Without U.S. trade restrictions, Cuba recovered a steady flow of income through trade)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was able to fluctuate and experience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굴림"/>
              </a:rPr>
              <a:t>Why was this Factor Important?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Economy: important for su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Standard of living brought dow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Ineffective policies from Bati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People unhappy; wanted chan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Batista’s popularity decr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3:57Z</dcterms:created>
  <dc:creator>student</dc:creator>
  <dc:description/>
  <dc:language>en-US</dc:language>
  <cp:lastModifiedBy>Unggy</cp:lastModifiedBy>
  <dcterms:modified xsi:type="dcterms:W3CDTF">2008-10-27T18:45:57Z</dcterms:modified>
  <cp:revision>12</cp:revision>
  <dc:subject/>
  <dc:title>Castro’s Rise</dc:title>
</cp:coreProperties>
</file>