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2D06-2359-4CDB-A5F9-45229B4B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5D8-DA1D-4276-AD3A-21F19F01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9158-903E-4408-8425-E0CEE6AE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C39-9647-4DC9-B7A9-AB381652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274F-1B52-4F88-8784-94FB424B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91B4-CC70-4589-A596-EB933842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A715-FEFA-456B-BBC2-67F71DFA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31DE-13EB-4E45-8C71-E0BAA020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B75B-85DD-4544-B3E6-9C82C4A1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8DE9-1D95-4AC1-89DA-ED95EED8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BE2B-411A-4306-A46A-4317CAB1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0A45-17A4-4537-BDA7-2BDB1465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FE11-5835-4579-85AC-C96DCCE1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7739-F736-421C-9DCA-34E22580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0784-F09C-42CB-BA52-40C84638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C1A1-C89D-4C52-9B8A-996C86D6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7BCB-B458-4FB5-87AB-3F45F5A6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3665D-4F43-4A40-BA10-B44C6591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204AF-C80A-4B5E-BC09-C599EF89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F74CA-D1D0-426B-BEDA-8FD0E765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BB8FC-1A63-4B1F-8A5C-14C8A082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72758-6A39-4960-A006-B942F7EE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81BC-746B-4E16-8091-CED8F79E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AD39C-C676-48F9-8C91-A95D74AE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016ED-6635-412C-98EE-49AFAC89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2BB80-DC6C-4FEC-B903-35BC10CF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8A71A-1BD0-41B5-9C02-5B4A200F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F82A0-0BFF-4A57-BF46-BC90E00C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850CB-E3CC-4C60-B310-AE5721AE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80C81-C803-4C8E-BED2-018856E2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C0EDB-DE30-403D-B718-2A39750E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D4F4C-26BD-42C4-8444-2A8C5919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CCA4F-D53A-43C2-B413-A59F58AB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07CA-9DEB-418D-9FBD-64C28E7C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4B156-5879-48D6-9B27-B0BD4890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FA2EB-DE7F-4170-B475-90BF70DC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F9238-176C-4050-A98C-428994D1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B7BD4-7995-44E3-B3D6-56F4EFC8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DC614-137E-46C4-9BE4-4FF9E82D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8DE3A-9430-42EB-92A8-BD9F888B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3A5B9-94B5-411F-918D-F2D93765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97A63-452D-4812-AEAF-CB947122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E8B30-56FA-4B5F-B089-5E210AF9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D1E7F-70E6-4FBD-B745-A9084145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3BF3-4AFE-4089-A8E6-185F619B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2363D-592C-41AE-956B-EF721C10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DB1FE-207C-42C6-8FFA-63AFCEF6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C7F0E-04BA-4AD4-BCBC-AB1300F3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5BC2E-E289-4D8F-95C3-EAF08460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2A533-91DB-42E0-972D-BEDE7AF4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5F0F0-A13A-4E22-978D-0A583AD9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6FF74-4F87-44C7-895E-00494AB6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91ACB-8758-46B6-8448-7B0D0DAA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92E83-F6AF-4E4D-A490-ED125DF3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C0B4E-1683-4166-A1AB-DFC94094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DEB2-CBCC-4276-93EE-31248535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BF2E6-65B5-42EB-A300-5F344946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4C2C2-77E5-4A69-81BA-A6678C4C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31D90-1626-4073-BE7B-CAE6E370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FB289-0D81-4795-8B37-583BD042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A1ED7-F7C6-4F94-BE92-ABBB542E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8BBCB-7904-42E2-AFC4-B0F55AF7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47641-09D5-4FAE-B322-94D3D90A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CC0B3-AAD8-4E5B-921D-6DAC3F66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1E61D-A366-4940-AA0C-DE4DFD7B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7369F-F5DA-43EF-81AD-2F4A2B08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0436-7D64-4F12-B6C5-4414F46D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E456D-83E0-4510-B8EB-66676290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57818-59D4-4436-89E5-F3103379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06A04-4C54-4E39-B9FB-B48EFFCE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B734C-E82F-40D8-B90A-C1E8FAF5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D5734-6F51-404C-825B-571AD9F2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69B00-DB6B-4822-8DC3-A8A3D6DC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57993-CCF6-4856-813C-E186B2C6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5A216-6A11-4691-8F3B-E7CC5BB7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A6E2F-ABB8-4576-A125-B848BDBC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21852-277B-4D67-AD6E-5D7D9FEE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4AD1-1842-481D-BC5B-6EFDE637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1C4FB-F572-435A-AAF9-C2F09E06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6C118-3EED-4E2D-832B-71E11723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C98BE-A67A-43FF-8A20-83E4067A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8FD12-4A37-4E68-9A6C-4CEA1C75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F0E40-5605-43D9-991A-163EDEFF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2435B-AEE7-43B2-9214-417DDC15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7014E-D052-4197-96B4-FDAD93CA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E9542-2C32-4625-925A-3F1916A0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FA58E-C32D-4A41-ABE8-84B4AC73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9F7BB-6D0A-4875-854C-24875BF4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1E05-4582-4B65-B71C-3E8233CF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A8795-D6BC-49EB-B758-C77801AC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564AE-35BF-4597-8DF8-D1B895D2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A7CFE-24F5-4E03-93BB-085FBAA9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F32E5-E921-4707-96F7-A2E51C7B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96510-E54E-4DE4-AE82-E83BE87E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9D7DE-231D-4993-BBB6-A20AF728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1D514-8F6F-4BBE-A931-2D94D265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641B-944A-4040-ACF1-3A67A35943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1FD6-DF28-4F34-8D89-600FD6D03C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1EC2-5AA9-40AA-887B-4E2407F556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D27F-1159-41AB-86B0-78CD1712DD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7400-531C-4D6C-BACD-70F45927CE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D94D-BDD1-4E5A-8694-19425669E8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6720-A181-4D90-A5C6-8616EF7ED2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0FCC-156D-415E-A977-63761E3628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deolog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del Castro was most definitely a nationalist – he wanted a violent revolution to overthrow the Batista regime, unlike the Communists, who wanted a peaceful revolution. Castro aligned with the Orthodoxo, who wanted a violent revolution. Castro also believed in the defense of nationalist independence with the necessity of socialis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del Castro once described his regime as ‘humanistic’, not communist. In the early years of his political career, it was clear that many of his ideas were derived from Socialis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s ‘History will absolve me’ speech is evidence that he may have been inclined towards Communism from the start – it was seen as Marxist by some Orthodo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of Castro’s ideas were revolutionary – especially his ideas about education, welfare and healthcare. He wanted to have widespread healthcare for everybody. Even today, Cuba has an excellent healthcare syst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reason why Castro was so successful was because his ideas and his strong will were a welcome change from Batista, who lied to the Cuban people and began a militarized regime. One example showing his strong ideas was the fact that he refused to support any revolutionary groups who did not have strong idea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 Cubans in general disapproved of Communism, especially the cuban workers. Most people looked upon it with suspicion; this may have been the reason why Castro was not a Communist to begin with – he presented himself as a idealistic leader, but never a Communist, although many of his ideas leaned towards communis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4:56:24Z</dcterms:created>
  <dc:creator>CUHK</dc:creator>
  <dc:description/>
  <dc:language>en-US</dc:language>
  <cp:lastModifiedBy>student</cp:lastModifiedBy>
  <dcterms:modified xsi:type="dcterms:W3CDTF">2008-10-09T01:12:45Z</dcterms:modified>
  <cp:revision>5</cp:revision>
  <dc:subject/>
  <dc:title>Fidel Castro</dc:title>
</cp:coreProperties>
</file>