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25E6-726C-4136-83C3-53BF55CB1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812F-9068-472B-BC1F-57754E26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66BC-78D4-428C-BD28-500CA0F0E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861F-9D74-49B4-98A2-33CC288E2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D0B0-C093-415A-B7B3-415A63B84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74E4-9797-4966-AF90-21E853A0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F116-D4F8-42FB-9BFE-4B517600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128C-EC83-40B1-962D-ADE0F8AA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DC270-345E-4D22-833C-6D168512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3F798-55CD-4457-96F1-C66ADF85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C2E9-4402-463E-8971-27896CF6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BCCB-6B68-485A-B956-22E14C58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12B8-CD73-469A-91DF-21EF468A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A893-1B0D-4A17-8409-3178EEC2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71445-A0D6-45C5-904D-AA3E377D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67B3-F363-4CBF-BE50-87834EB5F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EA1D-53F5-4F4E-B19E-5D2ED0C2C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90D46-7B7F-493F-9B16-F94D52FDA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977E4-B354-4721-97EC-F551A300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47368-2CD1-4CA4-9F71-63E29024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77BA0-C9BF-459D-B73A-6319967D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C0CE2-6515-4754-B206-2791B7ED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673C-5B06-4AE3-BF64-216F0428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A1094-D6AC-4659-863C-5715D2B0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FC327-AC1B-4C56-8A63-CF8836CE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60857-535B-4018-83D9-A692C1F7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AF6F9-1A11-418C-A88D-7B06C5A3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FF703-6B0A-4BD9-87D5-9E4BD5AA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24F07-5891-4487-9ECA-3042DA61D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481E1-F899-4533-9BA9-E395A5A48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E7F3F-F6D7-40C0-B0A8-13C7433DC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C9FBB-A0C3-42E5-999D-9A3FF100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69406-96BE-45F0-BCB3-F9E94AEC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1E28-027F-42A9-98CD-5F3FF1E4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89862-1FDA-46B5-9C60-E127B6A0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BBCD4-775A-4F28-B583-8655F1AE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EA555-E967-406F-9C34-0687F085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B9E27-166C-4123-8942-986A6814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749F8-0050-40D2-B9A6-8A5A102A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64EA9-00A3-4871-AB52-195FFC11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C35C3-F7B0-47BA-986C-F5B4373C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26309-8968-48A9-A380-80E362513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3FCD5-58A9-4AC9-8C71-49E5DE2A5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EB8C9-D590-459B-BA1D-204848544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2B7B-D6B6-466C-A80B-5A19A31A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86C20-2A99-4BF0-B6BA-CFA7415B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441C4-2642-4C4F-AC9C-2E6D22DC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9B5A3-1360-4E6E-A632-27931081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BADD7-E987-4DAF-936A-9A0A2982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A8B9C-2781-4A39-AEFF-7E5BB60F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0A1A8-CB9A-4DED-BA0E-42384C1F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9C340-9730-4025-9E16-D9F95221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C38FA-1F81-44E7-87BD-088CB618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BF67B-1182-4B23-8AFC-076D8E6D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CF883-088A-4BCA-A3DC-296253A55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15FF-3519-4CAD-ABA1-3F066354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6065A-8798-4C64-9FB0-8F674F61B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48A71-B5EC-4EAC-8342-16708CC37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C9F21-E586-4C63-AAC7-5A7A823E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C9E15-A1CB-4FF1-A0E4-6F78BEA8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29377-3A47-4BFB-8CD5-F3D635F7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8EDCB-8A31-477F-A27F-2C0B3AE2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DC5E3-7E82-4E33-BC5B-6E0FBC8E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A2C91-809F-4F45-AB47-32BBCC6D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F856E-85E3-4CF7-BBFB-6EF3EB60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7DF65-86EB-4917-8B90-36EE20B4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3FEC-F201-4D95-BD4C-3CD3065D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7B7D0-F36D-416D-8AAB-D1FAFF2C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6754E-44B8-4A32-AA6F-A31609048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0C17A-CA12-4035-98E6-C7923261E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ACC91-2518-4F50-8F48-FE39D095D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37123-D8C2-4981-97C7-01CB8D29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67F26-48C4-4CF9-B02C-FF566621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7B1DD-9526-47F4-9A2E-B56B54FC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3F531-74FB-45E5-83F7-36EAAA88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AA024-1FB4-4584-B013-E4740FD5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78E61-4B6D-459F-89CB-751FE2C8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0F00-9121-4FEA-9BAA-0291EB6D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9D960-E70E-446D-BB88-5872C6C4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85F05-4A0E-4155-B625-739DDB21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C12C9-3760-4325-9701-94CDD5AA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257FC-675C-41A7-8FA5-3ACB25CB3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8A04A-2668-43BD-8E9B-F0B87BB1F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62012-C48C-4180-B492-AEBDB2B6C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8720E-7FDC-475A-89E2-09BE109F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2AE2D-7537-4D6E-9D5B-0F355256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4205A-84B6-4371-BB42-9B4D71AF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FD173-935A-44BD-B292-7DB2483F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332B-5AE9-43F2-B0F4-A15CBD95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81959-E325-4696-A3AE-B5ABB475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326B3-FB5F-4633-859B-1CB708DB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691E0-FBB6-4CEC-9554-57A8ED07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7093A-0A28-4D1C-BE99-806C8910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E6394-1471-406F-BCFD-F060E1F6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BC4E9-4DD5-479C-A179-905D1C564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B2A7D-1F91-41D5-96C7-3A82A782D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F87C-35AE-4297-BFCA-FB5C93EC5F3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E5B9-E6DC-4353-941C-F9B4D89CC8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9258-E902-4C5E-8E3C-D46940E4D4D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DB77-CF63-4831-8457-7170CF6666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6209-DFDE-44B9-B8F3-AF44B65954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7352-0353-4EB1-8FC6-2C0741BD92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E482-5FC0-450E-816B-898A3B047F6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61C7-1767-4C98-AFB7-B43E2F8B1FA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Ideolog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idel Castro was most definitely a nationalist – he wanted a violent revolution to overthrow the Batista regime, unlike the Communists, who wanted a peaceful revolution. Castro aligned with the Orthodoxo, who wanted a violent revolution. Castro also believed in the defense of nationalist independence with the necessity of socialism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del Castro once described his regime as ‘humanistic’, not communist. In the early years of his political career, it was clear that many of his ideas were derived from Socialis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is ‘History will absolve me’ speech is evidence that he may have been inclined towards Communism from the start – it was seen as Marxist by some Orthodox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ny of Castro’s ideas were revolutionary – especially his ideas about education, welfare and healthcare. He wanted to have widespread healthcare for everybody. Even today, Cuba has an excellent healthcare syste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other reason why Castro was so successful was because his ideas and his strong will were a welcome change from Batista, who lied to the Cuban people and began a militarized regime. One example showing his strong ideas was the fact that he refused to support any revolutionary groups who did not have strong idea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st Cubans in general disapproved of Communism, especially the cuban workers. Most people looked upon it with suspicion; this may have been the reason why Castro was not a Communist to begin with – he presented himself as a idealistic leader, but never a Communist, although many of his ideas leaned towards communis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46144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4:56:24Z</dcterms:created>
  <dc:creator>CUHK</dc:creator>
  <dc:description/>
  <dc:language>en-US</dc:language>
  <cp:lastModifiedBy>student</cp:lastModifiedBy>
  <dcterms:modified xsi:type="dcterms:W3CDTF">2008-10-09T01:12:45Z</dcterms:modified>
  <cp:revision>5</cp:revision>
  <dc:subject/>
  <dc:title>Fidel Castro</dc:title>
</cp:coreProperties>
</file>