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427-1781-4D3E-92E0-39655E79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67DA-EC3B-421E-949B-B2A2CAB8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778-9AC0-4E26-B3F7-B5F4DC0E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E9F-8472-47BC-B14F-57504E0A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6825-00FF-4F8F-BEA0-2D384437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81EC-B23A-4F72-BE3E-9137B198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BB4D-0E23-42E4-AAA2-2A9ED28C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583D-62E6-47C9-A43F-AD8541F1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F4CC-59BB-46A2-B1DA-D4A4E4D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EE0C-3FC8-4E66-967B-A92A1BEC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AE0B-43E2-4B84-8B9A-CED91191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553-0A38-4F85-9D69-1EEB33B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A996-8918-4763-BE09-6377DBE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7396-E373-43B8-8BCC-B511226C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DEC-06EB-4CA1-BF71-35C5F9E6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A0A3-B4FC-414B-A4AA-F8A89D6E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4B14-1DCF-461D-A168-C1ADAD9B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571B-C9C2-4DC5-AB64-5D843FDA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79AA-233F-49CE-9BB5-4C08B53D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17AC-F781-4119-AD41-B64D05E1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27F9D-F1DA-44AE-8E93-22B57B5D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B64C-1341-48FA-B5E9-ED2A4B0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C62-CFCB-451F-A18D-5AE951AE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D4DD-8E18-4ABF-8378-C7F589FC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132D-A8EA-41D3-BBE4-B1030263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D4DC1-5484-40C8-863F-C823BC94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385E-845B-4AEB-A76C-FB3A4A93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3E6B-2B15-46FB-B82A-E1368AC6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4DBD0-1171-4D75-8632-B39935B5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62E4-E4D1-4CBE-BB8F-F615F1BB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1FD81-F2CE-43AD-BFFA-EE1BC373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04EAB-7808-47BA-88B6-D4908C6B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89A5-A6C0-431D-83CA-68AD435C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D66-577C-4841-9281-E38B57E4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F440F-5DD2-44FC-81C6-2EC769BD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F506-D956-461F-8578-E0E9915D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89DE1-2108-40F1-8611-5A34FE65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12B6-7688-42DE-8C17-204A691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C29AB-CC6C-46BE-BD71-FEBE154D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E0C6-7596-431C-8030-567B9319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66AC-B875-4C0A-90B1-DEA163C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078A-41B2-4AF9-91F3-E17D0AA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BE730-527F-4642-AC3A-1A02F462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EE830-0C18-4DAC-AFF6-33E3ED54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F4C5-3AC7-446A-A799-89DD270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52971-7C6C-4EAF-AE21-72324A0A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158F9-BDD7-4D16-ABBC-844FC6DB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E8303-DE00-49F5-B11B-03A5FB4D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D382-9010-4BB9-93F8-E85BF2CD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BB30-158B-4E8E-A660-30E603C6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17FF-395C-4FFB-BCA1-F222BC28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53654-68F6-4B6D-A8B3-BB15D1ED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8BEE-D051-40BA-9E9F-0DB2840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0F05-9F7E-4C63-A218-13F78DF8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FF6B3-AE3B-42F4-9032-424F0D92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081-D01F-4FB2-B477-22EBB29A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C90CC-9F38-4725-98D0-41743F65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08229-4CCE-437B-ABFA-12B6BC72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D8FE0-720F-4EC1-8F17-AF5040BC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DB2A-2B9E-4EF6-A7AE-3B6685E8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BF0DA-9D28-41B4-9F49-25C118AA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4C8BC-6A28-4DD1-AC45-D5D1CCCC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A73C-8881-4D8E-AA8A-9F643346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714F6-38BB-4969-8812-F5C915B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4FCFA-8016-411D-BB31-E4AB680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1B1A7-171B-400E-A014-2D7E7A79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ECE-690F-4C10-A082-EE0BD833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06D81-85AB-4EA8-A44C-3496A4D7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2BF20-6870-4BD1-915A-E6CE24C1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03D2-80D2-4707-8FBD-9E2D0F4C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46314-6012-4E3E-B82D-1DDE58239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AA4E0-2FFE-4012-9BE1-0BB57DED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A54B3-985B-46F9-9CAD-0677430E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638E2-6176-4F96-869E-0F7EE166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CA48F-9175-4500-BEFC-819D3A88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9616A-6535-4794-BB9C-154F2388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15B4E-D021-45BC-884C-A7261E21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B61-DE88-41BB-8BBC-2181E9DE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1EA9-2C50-45D5-A84E-7B7EC200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F2A0E-6821-43EA-B545-D34E8635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5BE16-55C1-49C9-9A07-6760FDC0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2EC05-1294-48F6-9534-EA7508FD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73F2C-5F3A-44C6-A001-85B73413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047BC-BA44-427C-9ECC-C9A700F5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4A199-BEB1-4AA8-A6A3-7DE323D9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F2FB7-7EFA-4531-BAEE-8EBE3716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0F95-C2B1-4AFB-8133-AF61BCDD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5B9E8-09B9-4170-9F25-67E98481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BFD-8B98-4C42-92D2-2546076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0B2B3-6A00-446A-87C0-81C95384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37E63-9E0F-4417-ADD1-C02EEEC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C18C0-B3EE-48A5-834E-8B48826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39A80-4E5F-49C5-B434-C13D3E62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2B87B-972E-49A8-8228-AB638A15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A5B36-8E12-46B2-8FFF-9095458D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1679-285F-4EE0-A431-0CD031A8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5456-3380-4194-BA42-7A6AB116BA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BE0-F2B7-42CC-920E-9D337B2CBA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5E5E-53E2-4CDD-937F-BECBC28496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4396-22F9-48C7-BDB3-95611AA30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9FEF-3114-4BDB-A2DD-EC8A2102A9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4F25-621C-49AF-BC52-F442332C8B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92C5-99F5-40C0-91B9-DB15AF66CB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4921-86B2-4472-8C88-B63948D080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de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del Castro was most definitely a nationalist – he wanted a violent revolution to overthrow the Batista regime, unlike the Communists, who wanted a peaceful revolution. Castro aligned with the Orthodoxo, who wanted a violent revolution. Castro also believed in the defense of nationalist independence with the necessity of socia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del Castro once described his regime as ‘humanistic’, not communist. In the early years of his political career, it was clear that many of his ideas were derived from Social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‘History will absolve me’ speech is evidence that he may have been inclined towards Communism from the start – it was seen as Marxist by some Orthod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Castro’s ideas were revolutionary – especially his ideas about education, welfare and healthcare. He wanted to have widespread healthcare for everybody. Even today, Cuba has an excellent healthcar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reason why Castro was so successful was because his ideas and his strong will were a welcome change from Batista, who lied to the Cuban people and began a militarized regime. One example showing his strong ideas was the fact that he refused to support any revolutionary groups who did not have strong ide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ubans in general disapproved of Communism, especially the cuban workers. Most people looked upon it with suspicion; this may have been the reason why Castro was not a Communist to begin with – he presented himself as a idealistic leader, but never a Communist, although many of his ideas leaned towards commu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56:24Z</dcterms:created>
  <dc:creator>CUHK</dc:creator>
  <dc:description/>
  <dc:language>en-US</dc:language>
  <cp:lastModifiedBy>student</cp:lastModifiedBy>
  <dcterms:modified xsi:type="dcterms:W3CDTF">2008-10-09T01:12:45Z</dcterms:modified>
  <cp:revision>5</cp:revision>
  <dc:subject/>
  <dc:title>Fidel Castro</dc:title>
</cp:coreProperties>
</file>