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06BF-C9DA-4320-B360-D1892694B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dow dictatorship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haky economy, but also some social reform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omen's rights as well as trade un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ista running Cuba openly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 governed well compared to previous rulers, and had the support of the army, the upper and middle classes, the communists, the working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hutting down on the press - Batista is an indecisive leader - he lets Castro publish up to 25 denunciations of him in the pap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a had had a history of failed heroes and leaders - Marti, Chibas, Guiter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tro's clever manipulation of the media - as seen with Radio Rebelde, his use of Batista's newspap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nacada Barracks raid importantly appeals to the Cuban's sense of identity - it is classically Cuban hero in na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d to the Ortodoxos, the Autenticos, the PSP, Fidel Castro seemed to be a person genuinely willing to risk his life for chan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 Manifesto was designed to gain the support of people who had been especially wronged by Batista's regime - it excluded "the well-off and conservative sections of the natio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reality, Fidel Castro also was careful to gain the support of the sugar barons through his economic polic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del Castro maneuvered carefully.  For example, although he distanced himself from the PSP, he did not ostracize himself entirely from them, as they were the only group in Cuba with a proper grassroots mov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96E9-ACA1-4908-A960-A7E80B5B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AFE-7824-4E8E-93B2-A93CDC5A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0B93-2C59-4594-984F-470CC557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2D3-574E-42CF-A195-4FF6058D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5FFF-3DD5-4D83-948A-106881A8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C567-E479-4E64-BC9B-B60FBDDA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B52D-FE98-42C8-9614-EF4D4DF9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E4E-DAF5-4CAA-88AC-0243A78A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EDF7-DAC7-415A-9B24-91180FC4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D308-4C30-4059-B100-DD2A764D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054-EF18-47A0-B832-D09D1378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48DE-8214-4BD9-8A9C-2E43C387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25CD-838F-46A3-97B0-EAA9C2416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2440" y="2924280"/>
            <a:ext cx="846144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What caused the Cuban Rev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85840" y="4668840"/>
            <a:ext cx="6615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tro as a leader, and Batista's corrupted reg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49280" y="1849320"/>
            <a:ext cx="8315280" cy="49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disastrous Estrada, Gomez, Machado governments, Batista took power in the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lt of the Sergeant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93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33-1940, Batista ran a shadow dictatorship through various puppe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1940-1944 Batista ran Cuba open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lining his own pockets, Batista turned over power to his old opponent Grau San Martin and went to Flor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85560"/>
            <a:ext cx="8461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1944 - 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49280" y="1854360"/>
            <a:ext cx="831528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a during these years was rife with rampant corruption, political assassinations and rio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would have influenced Castro in the University of Havana, which was prone to rio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ana became a city full of gangsters, prostitution and narcotics under both Grau San Martin's and Batista's rule, causing a loss of identity for the Cuban people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7440" y="1730160"/>
            <a:ext cx="8524800" cy="55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ions were often rigged - Batista came to power in 1952 in a seizure of power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ista quickly shuts down on the press and personal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t of his regime was characterized by brutality and vio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ncada uprising was met with torture and execution, which helped Castro garner sympathy from the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rong Leadershi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2400" y="1722240"/>
            <a:ext cx="818820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ipulates acts such as the Moncada Barracks incident to gain media atten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rew attention to the Moncada Program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rol over the media -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dia coups such as Radio Rebelde (1958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s speeches including the well known "History will absolve me" speech painted a much more positive image of the future for the Cuban peop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rong Leadershi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4200" y="1697040"/>
            <a:ext cx="8447040" cy="55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s ideology as outlined in his Manifesto gained the support of those who had been especially wronged by Batista's regi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stro maneuvered carefully - he could not completely ostracize himself entirely from the PSP but at the same time had to avoid raising suspicions in the US and amongst the anti-Batista opposi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