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325F-2604-4ADC-B535-812968ED7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dow dictatorship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haky economy, but also some social reform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omen's rights as well as trade un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ista running Cuba openly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 governed well compared to previous rulers, and had the support of the army, the upper and middle classes, the communists, the working 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hutting down on the press - Batista is an indecisive leader - he lets Castro publish up to 25 denunciations of him in the pap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a had had a history of failed heroes and leaders - Marti, Chibas, Guiter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tro's clever manipulation of the media - as seen with Radio Rebelde, his use of Batista's newspap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nacada Barracks raid importantly appeals to the Cuban's sense of identity - it is classically Cuban hero in nat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d to the Ortodoxos, the Autenticos, the PSP, Fidel Castro seemed to be a person genuinely willing to risk his life for chan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 Manifesto was designed to gain the support of people who had been especially wronged by Batista's regime - it excluded "the well-off and conservative sections of the natio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reality, Fidel Castro also was careful to gain the support of the sugar barons through his economic polic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del Castro maneuvered carefully.  For example, although he distanced himself from the PSP, he did not ostracize himself entirely from them, as they were the only group in Cuba with a proper grassroots move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9B2F-B95E-4F98-A358-EB3B5173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6286-7F1E-4836-B7A0-E0575BA6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7098-8CA6-447B-87FD-DC6A8E5C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20FE-036C-4DD3-8433-CAD14083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FD50-DD6C-45DD-8C9A-06B496D9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4D81-777E-4C6B-B016-36869F6D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6A95-E101-41FF-A96A-5519B193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80C-7BB0-481E-8BB2-0C72E8A6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FA0C-338E-4428-8CC1-67655FCB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A5D3-B2E8-4CE5-B214-CBBED72E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ECFE-A121-4638-A067-2BF7E7CB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57B3-A119-45B8-B595-6AAF6016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8A18-B040-4147-B330-E9926ED1A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2440" y="2924280"/>
            <a:ext cx="846144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What caused the Cuban Rev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85840" y="4668840"/>
            <a:ext cx="6615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tro as a leader, and Batista's corrupted reg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49280" y="1849320"/>
            <a:ext cx="8315280" cy="49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disastrous Estrada, Gomez, Machado governments, Batista took power in the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olt of the Sergeant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93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33-1940, Batista ran a shadow dictatorship through various puppe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1940-1944 Batista ran Cuba open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lining his own pockets, Batista turned over power to his old opponent Grau San Martin and went to Flor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85560"/>
            <a:ext cx="8461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1944 - 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49280" y="1854360"/>
            <a:ext cx="831528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a during these years was rife with rampant corruption, political assassinations and rio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would have influenced Castro in the University of Havana, which was prone to rio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ana became a city full of gangsters, prostitution and narcotics under both Grau San Martin's and Batista's rule, causing a loss of identity for the Cuban people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7440" y="1730160"/>
            <a:ext cx="8524800" cy="55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ions were often rigged - Batista came to power in 1952 in a seizure of power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ista quickly shuts down on the press and personal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t of his regime was characterized by brutality and vio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ncada uprising was met with torture and execution, which helped Castro garner sympathy from the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rong Leadershi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2400" y="1722240"/>
            <a:ext cx="818820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ipulates acts such as the Moncada Barracks incident to gain media atten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rew attention to the Moncada Program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rol over the media -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dia coups such as Radio Rebelde (1958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s speeches including the well known "History will absolve me" speech painted a much more positive image of the future for the Cuban peop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rong Leadershi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4200" y="1697040"/>
            <a:ext cx="8447040" cy="55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s ideology as outlined in his Manifesto gained the support of those who had been especially wronged by Batista's regim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stro maneuvered carefully - he could not completely ostracize himself entirely from the PSP but at the same time had to avoid raising suspicions in the US and amongst the anti-Batista opposi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