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FE161-7381-43FE-9BBF-35EE18B5CD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hadow dictatorship -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shaky economy, but also some social reform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–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women's rights as well as trade uni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ista running Cuba openly -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 governed well compared to previous rulers, and had the support of the army, the upper and middle classes, the communists, the working clas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 shutting down on the press - Batista is an indecisive leader - he lets Castro publish up to 25 denunciations of him in the paper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a had had a history of failed heroes and leaders - Marti, Chibas, Guitera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stro's clever manipulation of the media - as seen with Radio Rebelde, his use of Batista's newspaper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Monacada Barracks raid importantly appeals to the Cuban's sense of identity - it is classically Cuban hero in natur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d to the Ortodoxos, the Autenticos, the PSP, Fidel Castro seemed to be a person genuinely willing to risk his life for chang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 Manifesto was designed to gain the support of people who had been especially wronged by Batista's regime - it excluded "the well-off and conservative sections of the nation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reality, Fidel Castro also was careful to gain the support of the sugar barons through his economic polic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del Castro maneuvered carefully.  For example, although he distanced himself from the PSP, he did not ostracize himself entirely from them, as they were the only group in Cuba with a proper grassroots movemen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A6C55-F290-481F-A1F1-B809951AD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3E179-A1A4-4C15-923F-F1576CC64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0DA81-2AC8-4040-B66B-9C54F0062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DCBC5-7AF3-4BED-BD33-4074F0314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288DD-DD52-4C59-8648-62789CADE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EEBD7-EEFC-4DB9-8C51-22682409B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49C1D-2400-4665-B624-94AA53E8E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16ED4-C0E4-4EDB-9D0B-6A4969B60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DB200-4651-4B4F-B133-159C3DF8D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65632-E524-480D-8216-2468AB1C6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D756C-8D28-4953-A309-ED8CB5B23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8CBE9-FD32-4A2E-B5CE-0F29927F3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EA06A-F5E4-4518-8B24-5897A9D16E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52440" y="2924280"/>
            <a:ext cx="8461440" cy="122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98a8a"/>
                </a:solidFill>
                <a:latin typeface="Arial"/>
              </a:rPr>
              <a:t>What caused the Cuban Revolutio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185840" y="4668840"/>
            <a:ext cx="661500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stro as a leader, and Batista's corrupted regim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49280" y="1849320"/>
            <a:ext cx="8315280" cy="491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ter the disastrous Estrada, Gomez, Machado governments, Batista took power in the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volt of the Sergeants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1933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14680" indent="-228600">
              <a:lnSpc>
                <a:spcPct val="95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933-1940, Batista ran a shadow dictatorship through various puppe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1940-1944 Batista ran Cuba openly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ter lining his own pockets, Batista turned over power to his old opponent Grau San Martin and went to Florid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560" y="385560"/>
            <a:ext cx="8461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98a8a"/>
                </a:solidFill>
                <a:latin typeface="Arial"/>
              </a:rPr>
              <a:t>1944 - 5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49280" y="1854360"/>
            <a:ext cx="8315280" cy="491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ba during these years was rife with rampant corruption, political assassinations and riot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257480" indent="-228600">
              <a:lnSpc>
                <a:spcPct val="95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se would have influenced Castro in the University of Havana, which was prone to riot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ana became a city full of gangsters, prostitution and narcotics under both Grau San Martin's and Batista's rule, causing a loss of identity for the Cuban people.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17440" y="1730160"/>
            <a:ext cx="8524800" cy="55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ections were often rigged - Batista came to power in 1952 in a seizure of power.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tista quickly shuts down on the press and personal freedo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est of his regime was characterized by brutality and violen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257480" indent="-228600">
              <a:lnSpc>
                <a:spcPct val="95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oncada uprising was met with torture and execution, which helped Castro garner sympathy from the peop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trong Leadership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12400" y="1722240"/>
            <a:ext cx="818820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ipulates acts such as the Moncada Barracks incident to gain media atten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Drew attention to the Moncada Programm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ontrol over the media -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edia coups such as Radio Rebelde (1958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His speeches including the well known "History will absolve me" speech painted a much more positive image of the future for the Cuban people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trong Leadership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14200" y="1697040"/>
            <a:ext cx="8447040" cy="557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His ideology as outlined in his Manifesto gained the support of those who had been especially wronged by Batista's regime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astro maneuvered carefully - he could not completely ostracize himself entirely from the PSP but at the same time had to avoid raising suspicions in the US and amongst the anti-Batista oppositio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