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E4F4-91B3-4E60-8C6E-E346DE91D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dow dictatorship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aky economy, but also some social reform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men's rights as well as trade un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ista running Cuba openly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 governed well compared to previous rulers, and had the support of the army, the upper and middle classes, the communists, the working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hutting down on the press - Batista is an indecisive leader - he lets Castro publish up to 25 denunciations of him in the 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a had had a history of failed heroes and leaders - Marti, Chibas, Guite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ro's clever manipulation of the media - as seen with Radio Rebelde, his use of Batista's newspap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Monacada Barracks raid importantly appeals to the Cuban's sense of identity - it is classically Cuban hero in n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d to the Ortodoxos, the Autenticos, the PSP, Fidel Castro seemed to be a person genuinely willing to risk his life for 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 Manifesto was designed to gain the support of people who had been especially wronged by Batista's regime - it excluded "the well-off and conservative sections of the nation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ality, Fidel Castro also was careful to gain the support of the sugar barons through his economic polic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del Castro maneuvered carefully.  For example, although he distanced himself from the PSP, he did not ostracize himself entirely from them, as they were the only group in Cuba with a proper grassroots mov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965-F4A9-4D65-A257-66F0AA04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A64F-20F3-4A17-A423-60353CEA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3D2-6E2B-412E-8781-8FD3D120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EBF-A2F4-4000-8885-A0BB34C38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3B4-701F-4319-9300-B286FAD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85A-BCF6-45F5-9D50-A65213A3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5A7D-1071-4CA8-94FC-047DE8A1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99C-1787-46DF-B0C3-55C7BAC0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10C-9900-45EC-AFA3-1EC4C789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723-8895-4958-9E33-D37868E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7D8-3BA5-4E88-8BAE-59A364C2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2EF-6093-4DB2-90A1-AA289B7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DEED-24E5-4782-AFC3-CB349A4E3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924280"/>
            <a:ext cx="846144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What caused the Cuban Re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5840" y="4668840"/>
            <a:ext cx="6615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ro as a leader, and Batista's corrupted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9280" y="1849320"/>
            <a:ext cx="8315280" cy="49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disastrous Estrada, Gomez, Machado governments, Batista took power in the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t of the Sergeant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9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4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33-1940, Batista ran a shadow dictatorship through various pupp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940-1944 Batista ran Cuba openl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lining his own pockets, Batista turned over power to his old opponent Grau San Martin and went to Flor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85560"/>
            <a:ext cx="8461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98a8a"/>
                </a:solidFill>
                <a:latin typeface="Arial"/>
              </a:rPr>
              <a:t>1944 - 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49280" y="1854360"/>
            <a:ext cx="831528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 during these years was rife with rampant corruption, political assassinations and rio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would have influenced Castro in the University of Havana, which was prone to rio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ana became a city full of gangsters, prostitution and narcotics under both Grau San Martin's and Batista's rule, causing a loss of identity for the Cuban people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7440" y="1730160"/>
            <a:ext cx="8524800" cy="55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ions were often rigged - Batista came to power in 1952 in a seizure of power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ista quickly shuts down on the press and personal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t of his regime was characterized by brutality and vio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ncada uprising was met with torture and execution, which helped Castro garner sympathy from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2400" y="1722240"/>
            <a:ext cx="818820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ipulates acts such as the Moncada Barracks incident to gain media att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rew attention to the Moncada Program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rol over the media -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dia coups such as Radio Rebelde (1958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speeches including the well known "History will absolve me" speech painted a much more positive image of the future for the Cuban peop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rong Leadershi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1697040"/>
            <a:ext cx="8447040" cy="55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is ideology as outlined in his Manifesto gained the support of those who had been especially wronged by Batista's reg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stro maneuvered carefully - he could not completely ostracize himself entirely from the PSP but at the same time had to avoid raising suspicions in the US and amongst the anti-Batista opposi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