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DC89-BB64-4D24-AFDB-98189A6ED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B47C-FF81-47FF-967A-808D4109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0EDF-0D43-4C70-A0F5-CF77F925F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4CE5-E50A-4597-B376-720C1DD2A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C85D-21B9-45B4-B00E-BDD7B0EA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A25B-EE20-473A-8395-AF06FF9B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36E7-D08D-494E-8081-594DD64E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AA3D-0E2D-4497-9F7B-963461BB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6F32-1F4E-4E3D-A3A5-93019574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AA5B-D65A-4502-9422-F24834B6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E0BB-0D8B-4FEA-894A-F2AA5C2E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5228-DA84-4224-A73F-FAC02C47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4A09-B099-4F9C-B127-7D0E4A266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in Amer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WW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ism, Military Regimes…fun stuff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cus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write down thoughts on the following 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you feel like it is our responsibility to fund struggling countries? Why or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what you know of communism, do you feel like it was/is important to try and seek allies in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FK’s Alliance for Progress was intended to do just that, how do you feel about such large expenditu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to your neighbor and answer the following question, please write down your respon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should the overlying foreign policy be for the current/next Presid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be specific for the time period we are in and justify your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9512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in Am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50496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ship in communist parties increased by 500% as the Cold War gr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48-the formation of the Organization of American States (O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quarters in Washington D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 members had jo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35 independent nations are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62-Cuban government was excluded as a 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s are to strengthened democracy, defend human rights, and promote sustainable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7672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ttack on one member state is defined as an attack on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S does act independently quite of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tras in Nicaragua and the invasion of Pan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S was condemned by other OAS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member nations maintain ties to Cuba…obviously the US does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the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nations needed loans to remain stable (called ISI lo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were eager to show their loyalty because of Cold War poli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st parties were excluded from political pro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I loans were being used by politicians…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ing off disorder and keeping a lid on social unrest ended in the 50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ation and unemployment were 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vernments could not figure out how to control both while sacrificing social welf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743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nel Jacobo Arbenz Guzman was elected President of Guatema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 was land re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% owned and controlled 74% of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52-law…what did it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ited Fruit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 company with 550,000 ac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me a major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53-Eisenhower supported an overthrow of Arbe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 Success-initiated by CIA, carried out by right-wing insur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FC regained their land….”Che” Guevara probably began radicalization as a resul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43800" y="3124080"/>
            <a:ext cx="126828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 of 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del Castro (1959) challenged the notion that foreign influence was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ilitary determined whether a country was a democracy, an oligarchy of elites or a dictatorship (Marx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ilitary offices chose the government that suited them the b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ism and order were alway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lliance for Prog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66880" y="160020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FK agreed to appropriate 20 bill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ted to counteract poverty and social inequities (breeding ground for communis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…he was assassin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BJ became preoccupied with Viet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3-the OAS disba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bout the role of the Catholic Chur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istian Democratic Parties were created…what did they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urch became the champion of human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ir role in politics got them into trouble..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980 they got out of poli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70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52320" y="1599840"/>
            <a:ext cx="5334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 and European countries began loaning mo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2-LA debt was over 315 b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zil owed 87.5 and Argentina owed 43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SI program created issues with local p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goods were 300%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omies were based on low-value commodities such as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ssion of the late 70’s and 80’s led to less money for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0-1984 growth in LA dropped 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debt became a major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nations restructured their d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urden of debt increased 9% a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….what happen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0384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itary regimes were just not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junta after another resigned from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ist movements came and w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2003 all countries of LA had some form of elected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exception of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what will the future b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53341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illboard in a Cuban street..w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4:41:57Z</dcterms:created>
  <dc:creator>Danny Root</dc:creator>
  <dc:description/>
  <dc:language>en-US</dc:language>
  <cp:lastModifiedBy>verity aylward</cp:lastModifiedBy>
  <dcterms:modified xsi:type="dcterms:W3CDTF">2010-06-13T19:39:46Z</dcterms:modified>
  <cp:revision>2</cp:revision>
  <dc:subject/>
  <dc:title>Latin America </dc:title>
</cp:coreProperties>
</file>