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1B79-E866-40AB-B071-764A4576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A20-5A67-4189-B492-62F09DE8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05EF-3BE8-463D-B7D0-E4AD190C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23A8-D0EE-4083-9425-C445E7A3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D2A8-BF70-4DC8-AB75-AA52A700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18EB-6FCD-4A91-A6AF-AB8EA2D9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03C2-3EEB-4903-8C9E-E47ED3B8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2B2A-23FC-4532-9479-9E41D293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C821-06B4-48C8-A6B5-79569998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5A9A-13BC-4E69-8148-34750C1A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D3AB-0F2C-4815-8E59-7959EBDE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9222-0C7D-464D-88ED-A5CB9ACE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58C4-0BEC-4251-BC6E-9C4C13CB7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n Amer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WW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ism, Military Regimes…fun stuff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cus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write down thoughts on the following 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feel like it is our responsibility to fund struggling countries? Why or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what you know of communism, do you feel like it was/is important to try and seek allies in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FK’s Alliance for Progress was intended to do just that, how do you feel about such large expendit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your neighbor and answer the following question, please write down your respon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hould the overlying foreign policy be for the current/next Presid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be specific for the time period we are in and justify your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n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hip in communist parties increased by 500% as the Cold War gr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8-the formation of the Organization of American States (O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quarters in Washington D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 members had jo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35 independent nations are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62-Cuban government was excluded as a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s are to strengthened democracy, defend human rights, and promote sustainabl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7672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ttack on one member state is defined as an attack on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S does act independently quite o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tras in Nicaragua and the invasion of Pan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S was condemned by other OAS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member nations maintain ties to Cuba…obviously the US does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th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nations needed loans to remain stable (called ISI lo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were eager to show their loyalty because of Cold War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st parties were excluded from political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I loans were being used by politicians…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ing off disorder and keeping a lid on social unrest ended in the 5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 and unemployment were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s could not figure out how to control both while sacrificing social welf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743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el Jacobo Arbenz Guzman was elected President of Guatema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was land re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% owned and controlled 74% of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2-law…what did it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ed Fruit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 company with 550,000 ac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me a major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3-Eisenhower supported an overthrow of Arb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 Success-initiated by CIA, carried out by right-wing insur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FC regained their land….”Che” Guevara probably began radicalization as a resul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43800" y="3124080"/>
            <a:ext cx="126828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del Castro (1959) challenged the notion that foreign influence wa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litary determined whether a country was a democracy, an oligarchy of elites or a dictatorship (Marx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litary offices chose the government that suited them the b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ism and order were alway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liance for 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66880" y="160020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FK agreed to appropriate 20 bill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ed to counteract poverty and social inequities (breeding ground for communis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…he was assassin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BJ became preoccupied with Viet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3-the OAS disb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bout the role of the Catholic Chur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tian Democratic Parties were created…what did the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urch became the champion of human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ir role in politics got them into trouble..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80 they got out of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7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52320" y="1599840"/>
            <a:ext cx="5334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 and European countries began loaning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2-LA debt was over 315 b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zil owed 87.5 and Argentina owed 43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SI program created issues with local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goods were 300%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ies were based on low-value commodities such as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ssion of the late 70’s and 80’s led to less money for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0-1984 growth in LA dropped 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debt became a major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nations restructured their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urden of debt increased 9% a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….what happen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itary regimes were just not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junta after another resigned from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ist movements came and w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2003 all countries of LA had some form of elected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exception of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at will the future b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3341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illboard in a Cuban street..w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4:41:57Z</dcterms:created>
  <dc:creator>Danny Root</dc:creator>
  <dc:description/>
  <dc:language>en-US</dc:language>
  <cp:lastModifiedBy>verity aylward</cp:lastModifiedBy>
  <dcterms:modified xsi:type="dcterms:W3CDTF">2010-06-13T19:39:46Z</dcterms:modified>
  <cp:revision>2</cp:revision>
  <dc:subject/>
  <dc:title>Latin America </dc:title>
</cp:coreProperties>
</file>