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25C-20B5-45EC-A579-33347058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7069-0425-40DE-BDF3-5401907E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C53A-348A-49A7-87D2-8DA3A0C91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C4C5-647D-491B-9AAE-0AAF9721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7CAA-F498-4F80-AADD-A551F401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2F2D-DE69-4401-8401-0C3F3D4E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5175-52A7-453F-AE8A-DA1A7E54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D1C8-E39C-4B78-82ED-8ACDA2AB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29E1-2A6D-42B6-B652-25DF8F04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0D0C-4FFC-4B7A-A82D-E92515FE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E49-543C-4378-9FA1-D4B1FC71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9E76-8052-4F2D-BA0E-E0E1A672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E6E2-5526-4710-9373-B6A902503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n Ame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WW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ism, Military Regimes…fun stuff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cus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write down thoughts on the following 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feel like it is our responsibility to fund struggling countries? Why or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what you know of communism, do you feel like it was/is important to try and seek allies in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FK’s Alliance for Progress was intended to do just that, how do you feel about such large expenditur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your neighbor and answer the following question, please write down your respon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hould the overlying foreign policy be for the current/next Presid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be specific for the time period we are in and justify your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9512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n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hip in communist parties increased by 500% as the Cold War gr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8-the formation of the Organization of American States (O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quarters in Washington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 members had jo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35 independent nations ar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2-Cuban government was excluded as a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s are to strengthened democracy, defend human rights, and promote sustainabl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ttack on one member state is defined as an attack on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 does act independently quite 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ras in Nicaragua and the invasion of Pan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S was condemned by other OAS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member nations maintain ties to Cuba…obviously the US does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nations needed loans to remain stable (called ISI lo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were eager to show their loyalty because of Cold War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st parties were excluded from political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I loans were being used by politicians…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ing off disorder and keeping a lid on social unrest ended in the 5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and unemployment were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s could not figure out how to control both while sacrificing social welf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43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el Jacobo Arbenz Guzman was elected President of Guatema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was land re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% owned and controlled 74% of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2-law…what did it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ed Fruit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 company with 550,000 ac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me a major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3-Eisenhower supported an overthrow of Arbe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 Success-initiated by CIA, carried out by right-wing insur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FC regained their land….”Che” Guevara probably began radicalization as a resu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43800" y="3124080"/>
            <a:ext cx="126828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del Castro (1959) challenged the notion that foreign influence wa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litary determined whether a country was a democracy, an oligarchy of elites or a dictatorship (Marx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litary offices chose the government that suited them the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ism and order were alway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lliance for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66880" y="16002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FK agreed to appropriate 20 bill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ed to counteract poverty and social inequities (breeding ground for communi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…he was assassin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BJ became preoccupied with Viet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3-the OAS disb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bout the role of the Catholic Chur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istian Democratic Parties were created…what did the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urch became the champion of human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ir role in politics got them into trouble..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80 they got out of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70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52320" y="1599840"/>
            <a:ext cx="5334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 and European countries began loaning mo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2-LA debt was over 315 b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zil owed 87.5 and Argentina owed 43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SI program created issues with local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goods were 300%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ies were based on low-value commodities such as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ssion of the late 70’s and 80’s led to less money for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0-1984 growth in LA dropped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debt became a major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nations restructured their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urden of debt increased 9% a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….what happe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tary regimes were just not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junta after another resigned from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ulist movements came and w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2003 all countries of LA had some form of elected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exception of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at will the future br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3341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illboard in a Cuban street..w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4:41:57Z</dcterms:created>
  <dc:creator>Danny Root</dc:creator>
  <dc:description/>
  <dc:language>en-US</dc:language>
  <cp:lastModifiedBy>verity aylward</cp:lastModifiedBy>
  <dcterms:modified xsi:type="dcterms:W3CDTF">2010-06-13T19:39:46Z</dcterms:modified>
  <cp:revision>2</cp:revision>
  <dc:subject/>
  <dc:title>Latin America </dc:title>
</cp:coreProperties>
</file>