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2643-E9CB-4209-A6D7-47D4D167C2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A71-AE82-4E41-8EEB-405E264955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0388-A914-4ADC-941F-8DCF2B7B20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44A7-2A55-4F08-AEB1-6E83DE5D15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FD04-5A36-4EE3-943B-59201B5AFF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58BC-D742-433C-9FD6-D3E6DB2072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C573-CAA8-4F16-BA42-424736475A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2E49-A2D2-48AA-B863-940D579115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0455-7E83-4D25-95CF-3A8C0D6C9A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C11-7616-440D-986B-BAAA445A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052-D94D-40D2-9620-7FCE16BC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034-F4FA-4050-994A-3F9576F1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A51-718F-4DFA-B563-47275FF2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04DE-B2D8-46ED-A009-D9638403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6AB9-C78F-460E-B1E7-D66A66A9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9BE5-C06A-495C-90F9-BD82D02A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182E-45FC-4C69-BDAA-9284AA46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228B-9D88-4A32-856A-F44D4EB7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819F-89AB-4943-A0EB-8ACD5C2C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E251-ECD1-4360-8FF6-D40BF12A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BD4-E661-4B4A-A775-1D7C8C16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0000-8E56-46AC-89B9-98612B87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AE18-1C9C-476D-BF98-12BD42A1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1806-FEF9-47B7-86E4-9E317E8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9E82-5464-4349-BBAE-4A5F7AF7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9964-4505-4846-BDC7-DED97A93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C4D1-FFF2-40AF-A79B-5FB48F34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5C58-7EC9-43C5-9D47-C61E38B6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5390-35AC-4309-BB5A-C9005FD9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DBA0-A12D-4F7E-9B53-E527F849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9B30-35FC-40C5-B4A9-084B64A3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142-7097-4ABF-AF29-F84FC71F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6FC3-4F36-4D35-8B82-8B8E16B4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960B-1B56-4B0F-9CFD-A2FA943E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86184-F455-420B-B752-E7D0176A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092F-FDE3-4A41-AF5E-D02FAFF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25AA-31CF-4E78-81BC-85656952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29354-0278-4102-A00C-86677FD5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8FBCC-E485-4E4C-AD11-440DED90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64592-6F8F-4D1F-8A23-524E9288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9FC72-EB91-4D27-9402-5CC641F1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5B3B-2142-43BB-8A04-A18D805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AC1-0081-4570-8E4C-248ACD74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E6509-0E79-4AA9-9D13-8F363598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4586D-6BE0-4663-B63C-A9969F3F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C06B4-C097-483A-95CC-765B5F33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7459B-242F-402D-973D-879E5D88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D8C6C-7256-473D-9B35-ACF6995F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43A1F-F737-47B1-B6A8-6A9BCD4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4497-6DD4-4E73-9E75-9C343B9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BBB8-E9DD-472A-9DD0-36AC5368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6797A-70C0-4950-90AA-7CD35DA5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9E0-FAA3-4FA2-9D20-C33AB6F1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A42-EC52-4ACC-A9B3-BC9B138E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D18-0E80-4DAC-B575-6F66B0F7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FB6-CF0E-4D2B-A7CC-35F2F390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185-C2D8-4E46-A86D-0EF71AD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66CD-80E7-4B8D-8123-EE4FDDDC59C6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27D-8F47-4EF3-8607-446CFC00611F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AF4B-0748-4668-932A-CAF740242078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5929-F43B-45D7-B641-DCBDE3F5BE8C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5440" y="1255680"/>
            <a:ext cx="891720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hat determines histor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great 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pivotal mo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al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conomic re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ISTORY FROM BE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Marxist interpretations: Telelogic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verything moves towards a certain end, a final resul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final result: a classless human socie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at is ‘Historical materialism’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 order to understand human society and historical development you have to study how humans produce and reproduce the material requirements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successfully produce these material requirements people have to enter into ‘production relations’ – the relationship between those who do the work and those who own the ‘means of productio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stages of historical materialis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arxists identified several historical stages of this relationshi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ibal (primitive communis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cient (slaves and slave 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eudalism (serfs and land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pitalism (owners and work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ety (politics, culture, laws etc) is shaped by thes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does society chang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dominant class is overthrown by a new emerging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y was this interpretation different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troduced the idea of ‘coherence’  into human hi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ggests that historical change is as a result of the struggle between different cla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amined ‘history from below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riticis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20:15Z</dcterms:created>
  <dc:creator>Andy</dc:creator>
  <dc:description/>
  <dc:language>en-US</dc:language>
  <cp:lastModifiedBy>Sha Tin College</cp:lastModifiedBy>
  <dcterms:modified xsi:type="dcterms:W3CDTF">2008-05-05T03:22:28Z</dcterms:modified>
  <cp:revision>6</cp:revision>
  <dc:subject/>
  <dc:title>The Marxist Interpretation of History</dc:title>
</cp:coreProperties>
</file>