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D2EE-4FA8-44EE-BDC9-7AC41CAB30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5154-458B-4506-8A81-F7CD322E7D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E5E0-8B56-4BE7-89FD-3BEEF3C675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5A2B-E04D-4038-A24C-7D8B5B3FDF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F7D3-980E-448F-93E5-28C89DA6E9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99FA-B022-4A20-9E97-0C990A4181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9C86-8D1E-4DB3-9167-4198F188C2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F379-415B-4D44-81CE-FFB8FBCE1DA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9A58-5B18-431B-B99E-08F40DA2AA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CD6-70F3-4382-A051-20310FB0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93B-6FF4-4481-8A57-60748A9E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8FB-8452-40F9-841D-90AE36CA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76A-D7CF-42CA-B06A-7B1F8822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0B2C-1F9C-4818-B758-4B97B774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64FF-EA52-46F9-93F7-5FBAA62E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FA24-361C-4D8D-B506-E4CCF653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FBBC-6D03-4B9F-8101-164DE8BE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D73A-927E-4288-B40E-182F39B6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CE6D-0A4E-4D5D-BEBC-F1FE316C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4781-6B75-4266-8A6D-12F32F54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EC8-2B0C-400D-B9BE-1E1CD879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065F-9519-4436-AA67-AD43B0F8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ADC8-E533-486C-A36A-996A67B2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754E-A888-413C-9B54-1C0DC0C1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1857-8A02-413D-B336-26E017E93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0F8B-462E-4772-9F7C-D8F3C190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A3C1D-5978-4D8E-B8BC-53750C5C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1FAB9-02C1-4E25-A767-AB21E800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C6071-9B8C-4E43-8A36-A7A91224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DE4E9-89B7-485B-B433-F212BF01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B4CEE-69BC-4332-832A-CECF0B98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2DC-653E-439C-99BA-7F2DC9B5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F6073-BBA5-4F9E-AE2B-D8BAF036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08D90-353A-49B1-B92E-27F13C89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6F41-00F8-4B34-A945-39AF551E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28BE8-43E7-406C-9C59-2DE641D5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15709-A2A7-40BC-9969-6B22B8A8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AE520-77BE-4DD7-A251-2196F453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DDD98-8058-40B6-8F61-DB146A94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C2CC1-C91A-401A-9183-764B4A1A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DAB4D-F14A-4967-B0B1-F9D146E2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6ED72-CEDD-41DA-8E31-D3D7CAE0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E3E-7D64-4F05-A680-56F62EFD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AD1E2-FD4F-4CB2-982F-150AE714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074A5-7C05-4647-B928-29C990CF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076B7-4D47-420C-B5C3-32A8E1B5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1445B-EA46-41B2-AC97-22C0C22D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87D04-5989-4906-BC4E-80201FFC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81D4C-7DED-465E-961A-63BEEB98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6D68B-1A4A-48A0-AA66-EBC8B00E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CB465-5804-4440-9130-95CF8CED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78F8-7A9A-4A5B-9CC1-439EA83B8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A0E5-A5A3-4A86-8E0D-211F8671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2D5-9567-4FBF-93D2-DD714542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459-F631-4F5E-9145-845655B1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32E-49C8-4733-ACDA-A2DF1008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7018-D776-449D-849B-7E9364F4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F734-F495-41A1-A610-538F57D779A8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4A89-2C7E-47D4-8653-E7389D10F9BB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1AE8-3233-4C12-A3E8-2A81C0630AE1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E574-37B4-4371-8385-714E84C6B94F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5440" y="1255680"/>
            <a:ext cx="891720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What determines histor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 great m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 pivotal mo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cial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conomic re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HISTORY FROM BELOW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Marxist interpretations: Telelogical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verything moves towards a certain end, a final resul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final result: a classless human socie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What is ‘Historical materialism’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 order to understand human society and historical development you have to study how humans produce and reproduce the material requirements of lif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o successfully produce these material requirements people have to enter into ‘production relations’ – the relationship between those who do the work and those who own the ‘means of production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The stages of historical materialism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arxists identified several historical stages of this relationship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ribal (primitive communism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ncient (slaves and slave own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eudalism (serfs and landown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apitalism (owners and worker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ociety (politics, culture, laws etc) is shaped by these relationsh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How does society change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dominant class is overthrown by a new emerging cla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04617b"/>
                </a:solidFill>
                <a:latin typeface="Calibri"/>
              </a:rPr>
              <a:t>Why was this interpretation different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troduced the idea of ‘coherence’  into human his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uggests that historical change is as a result of the struggle between different clas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xamined ‘history from below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riticis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0:20:15Z</dcterms:created>
  <dc:creator>Andy</dc:creator>
  <dc:description/>
  <dc:language>en-US</dc:language>
  <cp:lastModifiedBy>Sha Tin College</cp:lastModifiedBy>
  <dcterms:modified xsi:type="dcterms:W3CDTF">2008-05-05T03:22:28Z</dcterms:modified>
  <cp:revision>6</cp:revision>
  <dc:subject/>
  <dc:title>The Marxist Interpretation of History</dc:title>
</cp:coreProperties>
</file>