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6AC-7AA8-4657-9BCD-27765B02F5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BB9D-9031-4FF0-B2CC-25B769D098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FE18-5E27-4707-B9C4-5BFE2A1378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D2C-A5DE-465F-9480-4A4C074799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262A-C15D-4E78-8098-D5913C98A8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4BD3-9336-41BB-BE57-176D646E73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720A-0E8C-493A-8CC7-1EC2DA0614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A2E-B04B-4DD1-8E8A-E87286FE4D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6680-A146-47C4-A232-DC6B3E43FD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C1F-8A6A-48C4-8D20-677A76D5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02A-854F-45BA-A1CC-21BF7D2F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4B6-5E31-4903-B01B-5EC79A26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939-A0B2-4F1D-B490-A5E48AC4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1BFB-7121-45D4-9A76-545C3353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67A4-F142-4889-B6A5-A6B77171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2920-0BBF-4ACB-A7FD-E0166DC2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2CB7-DB4D-4EA2-A6AF-956F1477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6AC2-9C77-4A5E-A5E0-1A1F9E9D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E131-7CD2-4E73-951B-3BC513BC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751A-40F3-47D1-8D4E-F9949B2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608-9710-43B2-B454-8D9CC629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AB46-691C-4218-8D15-E5C6FD24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9F13-3C3E-4D0C-BAAD-49FADB3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6E95-C0A5-44CF-A40C-8FE77E48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E922-61AF-4E21-9200-3841135F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49C1-F06C-4EE7-B1B6-981FFBB3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6216-CF27-4FE0-BBDA-D8C59E12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97C7-5653-4ADA-BE3E-E7BC7FE6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FAD5-6841-49CE-8DC5-3FB30A9B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FA43-11CE-4896-BC1B-A6BC9A16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33C3-1AE0-41B2-BFCE-473ECF39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AE4-7702-4079-89C8-EF731896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FE4D-CFF7-44C7-B122-85DDAC95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3F11-0795-4B8D-BD88-58D4260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978E-A75F-4033-8185-39515C81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BE5D-613B-4E36-9EA7-88EC36C3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4AD8-6A02-4B1B-BE5A-99D09157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64DA-3A2F-4AF0-ABC9-02090898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967B-7436-4F58-ACD7-757C8E9A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8291-B803-452F-939B-6D18490A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4EAA-1B78-4F58-99AB-94E69F17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21D8D-0FE7-4FC8-9DB4-A14D0B7B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663-7DA4-41C7-ADDA-B9BF868A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1D4C-4C69-4CF5-B4E4-410A224C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58F2-6C92-439A-B648-9F9BDD5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6D4D-3B97-475C-9B7A-A9866D7B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4B1F-046B-472F-9B93-51EDF476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A10B-E36F-4B6C-903D-615FC58D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83DD-A07D-4180-BACD-79772FA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0BB9-307D-4665-9A12-4C75E24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89AF-619D-4D9A-89B7-463AE86E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C147-2741-4300-A16E-1CF99639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BCB-6EDA-4A53-B3AD-2EE4505B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222-2F04-43DB-A445-AA9755F1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1BE-5344-4701-B1B1-59079F4C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117-6E99-4613-AD2F-EE3B96F1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971-0E21-429F-959D-C09AB617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30B8-24F8-47A6-BA39-DF91412424A4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FBB1-52BD-401F-8D88-CA644BB56D73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9898-52D5-45D6-8B6C-DDBF87861EC1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75D1-1E03-4275-BEC1-5884F06E3C9C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5440" y="1255680"/>
            <a:ext cx="891720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at determines histo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great 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pivotal mo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al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conomic re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TORY FROM BE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Marxist interpretations: Telelogic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erything moves towards a certain end, a final resu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final result: a classless human socie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at is ‘Historical materialism’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 order to understand human society and historical development you have to study how humans produce and reproduce the material requirements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successfully produce these material requirements people have to enter into ‘production relations’ – the relationship between those who do the work and those who own the ‘means of productio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ages of historical materialis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arxists identified several historical stages of this relationshi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ibal (primitive communis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cient (slaves and slave 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eudalism (serfs and land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pitalism (owners and work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ety (politics, culture, laws etc) is shaped by the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oes society chang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ominant class is overthrown by a new emerging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y was this interpretation different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troduced the idea of ‘coherence’  into human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ggests that historical change is as a result of the struggle between different cl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ined ‘history from below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riticis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20:15Z</dcterms:created>
  <dc:creator>Andy</dc:creator>
  <dc:description/>
  <dc:language>en-US</dc:language>
  <cp:lastModifiedBy>Sha Tin College</cp:lastModifiedBy>
  <dcterms:modified xsi:type="dcterms:W3CDTF">2008-05-05T03:22:28Z</dcterms:modified>
  <cp:revision>6</cp:revision>
  <dc:subject/>
  <dc:title>The Marxist Interpretation of History</dc:title>
</cp:coreProperties>
</file>