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E84-958C-48D1-BB1A-D2785F8A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20D-769C-464E-ABAA-694AAEB6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61B-601E-407A-96B5-C41D1638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C8A-03B6-4D81-9BB3-8E043DE3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9DE9-A230-4A1E-A291-8467BC6D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A1F0-0756-4170-B983-63B6D649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EFFC-B2DA-4B44-BEDA-6D87441E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8229-8AA2-42A0-8DB7-7CEB2488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B273-529B-4FA5-8AC8-D315BC71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CCB9-074C-421D-937D-1BB57DC1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0D32-751F-4836-8850-36864D77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4ACF-CC8B-43D8-9C2E-181BACF9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CEC0-FB2D-4AF4-A921-969202ED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FD2A-89AA-4E45-A0C6-C860BA63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B680-EE8F-4CA5-BFCC-E162E9A3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475A-F811-484D-ABC6-66DC7028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9019-9287-48F5-8959-5D85E436F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451-997D-4EA8-B24E-4C30417B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8EE5-26D6-4447-A9D7-35B5CAD8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FFD-8616-4F85-BBEC-978320D8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B4D7-BC3C-40E0-9C56-26D81C24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59E-8101-4D5B-B745-891ECB61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3F63-0A0E-44BF-BB07-D9FBC084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BFD-1113-4FFE-9A88-C7463027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8C5C-C1BD-4D96-B87F-5DFA5CB0B01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A6A0-54D4-4FC4-B2E9-071061EAE70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youtube.com/watch?v=hH6nQhss4Yc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82400"/>
                </a:solidFill>
                <a:latin typeface="Times New Roman"/>
                <a:ea typeface="굴림"/>
              </a:rPr>
              <a:t>Kennedy’s Foreign Policy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Nicole and Ung M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  <a:ea typeface="굴림"/>
              </a:rPr>
              <a:t>Cuban Missile Crisis</a:t>
            </a:r>
            <a:r>
              <a:rPr b="0" lang="en-GB" sz="4400" spc="-1" strike="noStrike">
                <a:solidFill>
                  <a:srgbClr val="482400"/>
                </a:solidFill>
                <a:latin typeface="Times New Roman"/>
                <a:ea typeface="굴림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1962_cuban_missile"/>
          <p:cNvPicPr/>
          <p:nvPr/>
        </p:nvPicPr>
        <p:blipFill>
          <a:blip r:embed="rId1"/>
          <a:stretch/>
        </p:blipFill>
        <p:spPr>
          <a:xfrm>
            <a:off x="762120" y="1752480"/>
            <a:ext cx="3886200" cy="26085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143000" y="1828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Khrushchev vs. Kenne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nuclear-arms-race-7"/>
          <p:cNvPicPr/>
          <p:nvPr/>
        </p:nvPicPr>
        <p:blipFill>
          <a:blip r:embed="rId2"/>
          <a:stretch/>
        </p:blipFill>
        <p:spPr>
          <a:xfrm>
            <a:off x="4952880" y="1828800"/>
            <a:ext cx="3429000" cy="3043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5029200" y="1828800"/>
            <a:ext cx="3505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Photograph taken by the U.S of the Soviet missiles in Cuba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1" descr="23oct62_wpost"/>
          <p:cNvPicPr/>
          <p:nvPr/>
        </p:nvPicPr>
        <p:blipFill>
          <a:blip r:embed="rId3"/>
          <a:stretch/>
        </p:blipFill>
        <p:spPr>
          <a:xfrm>
            <a:off x="2971800" y="3276720"/>
            <a:ext cx="34974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82400"/>
                </a:solidFill>
                <a:latin typeface="Times New Roman"/>
                <a:ea typeface="굴림"/>
              </a:rPr>
              <a:t>Vietnam War 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828720" y="1981080"/>
            <a:ext cx="832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www.youtube.com/watch?v=dP4GaprkAJg&amp;feature=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Bay of Pigs Inva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0" name="Picture 2" descr="http://news.bbc.co.uk/olmedia/1235000/images/_1235128_cuba_bay_of_pigs_map150.gif"/>
          <p:cNvPicPr/>
          <p:nvPr/>
        </p:nvPicPr>
        <p:blipFill>
          <a:blip r:embed="rId1"/>
          <a:stretch/>
        </p:blipFill>
        <p:spPr>
          <a:xfrm>
            <a:off x="6643800" y="2000160"/>
            <a:ext cx="2023920" cy="24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www.filibustercartoons.com/bohemia2.jpg"/>
          <p:cNvPicPr/>
          <p:nvPr/>
        </p:nvPicPr>
        <p:blipFill>
          <a:blip r:embed="rId2"/>
          <a:stretch/>
        </p:blipFill>
        <p:spPr>
          <a:xfrm>
            <a:off x="2928960" y="3500280"/>
            <a:ext cx="4065480" cy="32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upload.wikimedia.org/wikipedia/en/thumb/8/88/Alerta.jpg/230px-Alerta.jpg"/>
          <p:cNvPicPr/>
          <p:nvPr/>
        </p:nvPicPr>
        <p:blipFill>
          <a:blip r:embed="rId3"/>
          <a:stretch/>
        </p:blipFill>
        <p:spPr>
          <a:xfrm>
            <a:off x="1214280" y="1714680"/>
            <a:ext cx="2190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Berlin Wall Crisi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2"/>
              </a:rPr>
              <a:t>http://www.youtube.com/watch?v=hH6nQhss4Y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h Bin Ein Berlin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http://oz.deichman.net/uploaded_images/Berlin-Wall-Tumbles-Print-C10109746-705422.jpeg"/>
          <p:cNvPicPr/>
          <p:nvPr/>
        </p:nvPicPr>
        <p:blipFill>
          <a:blip r:embed="rId4"/>
          <a:stretch/>
        </p:blipFill>
        <p:spPr>
          <a:xfrm>
            <a:off x="5429160" y="2357280"/>
            <a:ext cx="32194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3:49:16Z</dcterms:created>
  <dc:creator>Nicole Tsui</dc:creator>
  <dc:description/>
  <dc:language>en-US</dc:language>
  <cp:lastModifiedBy>Unggy</cp:lastModifiedBy>
  <dcterms:modified xsi:type="dcterms:W3CDTF">2009-09-15T20:13:26Z</dcterms:modified>
  <cp:revision>3</cp:revision>
  <dc:subject/>
  <dc:title>Kennedy’s Foreign Policy</dc:title>
</cp:coreProperties>
</file>