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C84-4B70-4C8C-81ED-D74BA6B5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4CD-6F61-4A57-A939-7CD6F357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F5D-D6AD-48D6-95DC-4EF5000E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71C-37CA-43C5-88C0-735A6753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FA8D-8950-4C84-944F-C0A9DAB1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3750-D849-4DD4-99B2-989682D1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4D34-2594-41C9-8781-DF0C83B4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E4C7-8775-4727-8808-B2B4D0AE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CF29-01B2-4619-A67C-EB631636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1C55-0A58-4B36-941C-373E9AF1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C798-102A-4B1A-B7F6-2221C69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52A-9B28-415C-92EB-48AEE389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564E-6E02-4719-936B-8FDE175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D530-1E44-43B4-92ED-A27F7A0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CC8F-7F0B-4F2A-90CE-E9DDE34E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38AE-390A-4FAB-9A6F-FA7748E6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7190-6184-48B4-B915-2675E829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391-BC1F-4EFF-9717-44493239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EC3-8674-4694-BAC5-81B27B7D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A6E-BE10-4DBA-ABF1-2B1403C9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E01-EFD9-47CC-B4BB-5586D1F6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808-9A6C-49A2-A380-16D0D84B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6B4-9FF4-4DB2-9578-D7FDBF9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280-4562-4D39-9AF1-54BF1D0F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1CCA-9321-4397-A240-85F640C4ADF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193C-0E8C-4FF2-BA75-11A96E08EC3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youtube.com/watch?v=hH6nQhss4Y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Kennedy’s Foreign Policy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Nicole and Ung M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Cuban Missile Crisis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1962_cuban_missile"/>
          <p:cNvPicPr/>
          <p:nvPr/>
        </p:nvPicPr>
        <p:blipFill>
          <a:blip r:embed="rId1"/>
          <a:stretch/>
        </p:blipFill>
        <p:spPr>
          <a:xfrm>
            <a:off x="762120" y="1752480"/>
            <a:ext cx="3886200" cy="260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143000" y="1828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hrushchev vs. Kenn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nuclear-arms-race-7"/>
          <p:cNvPicPr/>
          <p:nvPr/>
        </p:nvPicPr>
        <p:blipFill>
          <a:blip r:embed="rId2"/>
          <a:stretch/>
        </p:blipFill>
        <p:spPr>
          <a:xfrm>
            <a:off x="4952880" y="1828800"/>
            <a:ext cx="3429000" cy="3043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5029200" y="1828800"/>
            <a:ext cx="3505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Photograph taken by the U.S of the Soviet missiles in Cub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23oct62_wpost"/>
          <p:cNvPicPr/>
          <p:nvPr/>
        </p:nvPicPr>
        <p:blipFill>
          <a:blip r:embed="rId3"/>
          <a:stretch/>
        </p:blipFill>
        <p:spPr>
          <a:xfrm>
            <a:off x="2971800" y="3276720"/>
            <a:ext cx="34974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82400"/>
                </a:solidFill>
                <a:latin typeface="Times New Roman"/>
                <a:ea typeface="굴림"/>
              </a:rPr>
              <a:t>Vietnam War 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28720" y="1981080"/>
            <a:ext cx="83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youtube.com/watch?v=dP4GaprkAJg&amp;feature=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ay of Pigs Inva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0" name="Picture 2" descr="http://news.bbc.co.uk/olmedia/1235000/images/_1235128_cuba_bay_of_pigs_map150.gif"/>
          <p:cNvPicPr/>
          <p:nvPr/>
        </p:nvPicPr>
        <p:blipFill>
          <a:blip r:embed="rId1"/>
          <a:stretch/>
        </p:blipFill>
        <p:spPr>
          <a:xfrm>
            <a:off x="6643800" y="2000160"/>
            <a:ext cx="202392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filibustercartoons.com/bohemia2.jpg"/>
          <p:cNvPicPr/>
          <p:nvPr/>
        </p:nvPicPr>
        <p:blipFill>
          <a:blip r:embed="rId2"/>
          <a:stretch/>
        </p:blipFill>
        <p:spPr>
          <a:xfrm>
            <a:off x="2928960" y="3500280"/>
            <a:ext cx="4065480" cy="32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upload.wikimedia.org/wikipedia/en/thumb/8/88/Alerta.jpg/230px-Alerta.jpg"/>
          <p:cNvPicPr/>
          <p:nvPr/>
        </p:nvPicPr>
        <p:blipFill>
          <a:blip r:embed="rId3"/>
          <a:stretch/>
        </p:blipFill>
        <p:spPr>
          <a:xfrm>
            <a:off x="1214280" y="1714680"/>
            <a:ext cx="2190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erlin Wall Crisi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http://www.youtube.com/watch?v=hH6nQhss4Y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h Bin Ein Berli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oz.deichman.net/uploaded_images/Berlin-Wall-Tumbles-Print-C10109746-705422.jpeg"/>
          <p:cNvPicPr/>
          <p:nvPr/>
        </p:nvPicPr>
        <p:blipFill>
          <a:blip r:embed="rId4"/>
          <a:stretch/>
        </p:blipFill>
        <p:spPr>
          <a:xfrm>
            <a:off x="5429160" y="2357280"/>
            <a:ext cx="3219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3:49:16Z</dcterms:created>
  <dc:creator>Nicole Tsui</dc:creator>
  <dc:description/>
  <dc:language>en-US</dc:language>
  <cp:lastModifiedBy>Unggy</cp:lastModifiedBy>
  <dcterms:modified xsi:type="dcterms:W3CDTF">2009-09-15T20:13:26Z</dcterms:modified>
  <cp:revision>3</cp:revision>
  <dc:subject/>
  <dc:title>Kennedy’s Foreign Policy</dc:title>
</cp:coreProperties>
</file>