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878-93D1-47BA-AD44-68DEA53C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761-4D02-40AE-A7DF-924CBB0E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06C-D9E0-442E-BA38-3C0AB7FE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837-9720-4B12-951B-1177804A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1C7C-61FD-4A4C-813F-601E80E5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58EA-B4FF-420F-97DD-C9150D3E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8BED-A9CC-442D-A78A-5DAA8A50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E985-27C3-4DFD-A59C-8923574A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8CA-9B4D-4730-8368-C0B350FE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A1BA-BAFA-4992-A996-72B60948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1AD0-A99B-48BB-B179-0ADDBAC5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3363-AEDB-4DA9-9B4D-135E7951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BFA2-6446-4CB9-AAB0-E606CC3E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CC41-7562-48F2-918F-9064E06F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14EC-13F1-41C3-B2DD-EE646276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2EF5-385C-491C-96C0-309656FA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1DF5-EEA9-4629-8CD3-1540CA55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8B4-6177-4B03-89CB-20513807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24F-D249-47E2-843B-42031CB2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277-AA25-4971-B80B-DD160AB0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ED6-7066-4EFD-AD39-107F300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4E1-F8C7-4C45-B979-6ADF749E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556-505F-4851-9EFF-14C7B2FF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F23-5F0F-4196-9D44-33C0657E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F4DB-44D6-44E2-B7C3-2EA076F4AC5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3CDA-3C89-4036-AC6F-83F4D18DD44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youtube.com/watch?v=hH6nQhss4Y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Kennedy’s Foreign Policy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Nicole and Ung M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Cuban Missile Crisis</a:t>
            </a:r>
            <a:r>
              <a:rPr b="0" lang="en-GB" sz="4400" spc="-1" strike="noStrike">
                <a:solidFill>
                  <a:srgbClr val="482400"/>
                </a:solidFill>
                <a:latin typeface="Times New Roman"/>
                <a:ea typeface="굴림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1962_cuban_missile"/>
          <p:cNvPicPr/>
          <p:nvPr/>
        </p:nvPicPr>
        <p:blipFill>
          <a:blip r:embed="rId1"/>
          <a:stretch/>
        </p:blipFill>
        <p:spPr>
          <a:xfrm>
            <a:off x="762120" y="1752480"/>
            <a:ext cx="3886200" cy="260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143000" y="1828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hrushchev vs. Kenn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nuclear-arms-race-7"/>
          <p:cNvPicPr/>
          <p:nvPr/>
        </p:nvPicPr>
        <p:blipFill>
          <a:blip r:embed="rId2"/>
          <a:stretch/>
        </p:blipFill>
        <p:spPr>
          <a:xfrm>
            <a:off x="4952880" y="1828800"/>
            <a:ext cx="3429000" cy="3043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9"/>
          <p:cNvSpPr/>
          <p:nvPr/>
        </p:nvSpPr>
        <p:spPr>
          <a:xfrm>
            <a:off x="5029200" y="1828800"/>
            <a:ext cx="3505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Photograph taken by the U.S of the Soviet missiles in Cub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1" descr="23oct62_wpost"/>
          <p:cNvPicPr/>
          <p:nvPr/>
        </p:nvPicPr>
        <p:blipFill>
          <a:blip r:embed="rId3"/>
          <a:stretch/>
        </p:blipFill>
        <p:spPr>
          <a:xfrm>
            <a:off x="2971800" y="3276720"/>
            <a:ext cx="34974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82400"/>
                </a:solidFill>
                <a:latin typeface="Times New Roman"/>
                <a:ea typeface="굴림"/>
              </a:rPr>
              <a:t>Vietnam War 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28720" y="1981080"/>
            <a:ext cx="832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youtube.com/watch?v=dP4GaprkAJg&amp;feature=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ay of Pigs Inva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0" name="Picture 2" descr="http://news.bbc.co.uk/olmedia/1235000/images/_1235128_cuba_bay_of_pigs_map150.gif"/>
          <p:cNvPicPr/>
          <p:nvPr/>
        </p:nvPicPr>
        <p:blipFill>
          <a:blip r:embed="rId1"/>
          <a:stretch/>
        </p:blipFill>
        <p:spPr>
          <a:xfrm>
            <a:off x="6643800" y="2000160"/>
            <a:ext cx="2023920" cy="2428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ttp://www.filibustercartoons.com/bohemia2.jpg"/>
          <p:cNvPicPr/>
          <p:nvPr/>
        </p:nvPicPr>
        <p:blipFill>
          <a:blip r:embed="rId2"/>
          <a:stretch/>
        </p:blipFill>
        <p:spPr>
          <a:xfrm>
            <a:off x="2928960" y="3500280"/>
            <a:ext cx="4065480" cy="32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upload.wikimedia.org/wikipedia/en/thumb/8/88/Alerta.jpg/230px-Alerta.jpg"/>
          <p:cNvPicPr/>
          <p:nvPr/>
        </p:nvPicPr>
        <p:blipFill>
          <a:blip r:embed="rId3"/>
          <a:stretch/>
        </p:blipFill>
        <p:spPr>
          <a:xfrm>
            <a:off x="1214280" y="1714680"/>
            <a:ext cx="219096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Berlin Wall Crisi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http://www.youtube.com/watch?v=hH6nQhss4Y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h Bin Ein Berlin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http://oz.deichman.net/uploaded_images/Berlin-Wall-Tumbles-Print-C10109746-705422.jpeg"/>
          <p:cNvPicPr/>
          <p:nvPr/>
        </p:nvPicPr>
        <p:blipFill>
          <a:blip r:embed="rId4"/>
          <a:stretch/>
        </p:blipFill>
        <p:spPr>
          <a:xfrm>
            <a:off x="5429160" y="2357280"/>
            <a:ext cx="3219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3:49:16Z</dcterms:created>
  <dc:creator>Nicole Tsui</dc:creator>
  <dc:description/>
  <dc:language>en-US</dc:language>
  <cp:lastModifiedBy>Unggy</cp:lastModifiedBy>
  <dcterms:modified xsi:type="dcterms:W3CDTF">2009-09-15T20:13:26Z</dcterms:modified>
  <cp:revision>3</cp:revision>
  <dc:subject/>
  <dc:title>Kennedy’s Foreign Policy</dc:title>
</cp:coreProperties>
</file>