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1F8-B61D-42FC-9EAB-EDA2F374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985-C64A-4FDC-A0FC-D2944C6A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042-AB18-487A-AE55-91C91B62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C41-0601-4E15-A84C-ED0CA56F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7058-B41D-4C17-8455-47EB4ACC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7D9B-D77C-4DCD-9BFF-898A0A34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D768-DC4C-452A-9BEA-7829CC9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081E-E0E2-48EC-A66B-FB6E8AAB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6E1C-D207-4153-904F-B28FF300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3C32-BAF8-46A5-8C83-202EDA74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8A7C-0E5C-4E76-9360-4CD00BBC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695-78A3-4444-955B-B824D272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C066-F0E5-4E23-9D0D-724DC14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E7C4-AA6C-4379-B96B-A212CBB7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7CF5-CF83-4736-8D9F-B6DE8F5B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96D7-E38A-4E7C-9263-A24E69EB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E117-513B-4526-AABD-F417A23E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8E4-6ADF-4DDA-9B45-07C57C49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308-09CE-4465-AAB2-D90D107B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4FF-5A14-4FE5-BDC2-3EADA69C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69A-CFC6-4D43-A96B-BEC29A0F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510-5AFF-40A9-BFF6-F3E331AD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AE9-6E40-4188-B688-2C8DB3D2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3F6-CA95-45D1-9CAD-A0F6DA0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9C1B-39EC-4E73-A3C0-644AC9E4512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B96B-523F-45FE-8C2D-905919C7F97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youtube.com/watch?v=hH6nQhss4Y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Kennedy’s Foreign Policy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Nicole and Ung M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Cuban Missile Crisis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1962_cuban_missile"/>
          <p:cNvPicPr/>
          <p:nvPr/>
        </p:nvPicPr>
        <p:blipFill>
          <a:blip r:embed="rId1"/>
          <a:stretch/>
        </p:blipFill>
        <p:spPr>
          <a:xfrm>
            <a:off x="762120" y="1752480"/>
            <a:ext cx="3886200" cy="260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143000" y="1828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hrushchev vs. Kenn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nuclear-arms-race-7"/>
          <p:cNvPicPr/>
          <p:nvPr/>
        </p:nvPicPr>
        <p:blipFill>
          <a:blip r:embed="rId2"/>
          <a:stretch/>
        </p:blipFill>
        <p:spPr>
          <a:xfrm>
            <a:off x="4952880" y="1828800"/>
            <a:ext cx="3429000" cy="3043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5029200" y="1828800"/>
            <a:ext cx="3505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Photograph taken by the U.S of the Soviet missiles in Cub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23oct62_wpost"/>
          <p:cNvPicPr/>
          <p:nvPr/>
        </p:nvPicPr>
        <p:blipFill>
          <a:blip r:embed="rId3"/>
          <a:stretch/>
        </p:blipFill>
        <p:spPr>
          <a:xfrm>
            <a:off x="2971800" y="3276720"/>
            <a:ext cx="34974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82400"/>
                </a:solidFill>
                <a:latin typeface="Times New Roman"/>
                <a:ea typeface="굴림"/>
              </a:rPr>
              <a:t>Vietnam War 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28720" y="1981080"/>
            <a:ext cx="83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youtube.com/watch?v=dP4GaprkAJg&amp;feature=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ay of Pigs Inva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0" name="Picture 2" descr="http://news.bbc.co.uk/olmedia/1235000/images/_1235128_cuba_bay_of_pigs_map150.gif"/>
          <p:cNvPicPr/>
          <p:nvPr/>
        </p:nvPicPr>
        <p:blipFill>
          <a:blip r:embed="rId1"/>
          <a:stretch/>
        </p:blipFill>
        <p:spPr>
          <a:xfrm>
            <a:off x="6643800" y="2000160"/>
            <a:ext cx="202392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filibustercartoons.com/bohemia2.jpg"/>
          <p:cNvPicPr/>
          <p:nvPr/>
        </p:nvPicPr>
        <p:blipFill>
          <a:blip r:embed="rId2"/>
          <a:stretch/>
        </p:blipFill>
        <p:spPr>
          <a:xfrm>
            <a:off x="2928960" y="3500280"/>
            <a:ext cx="4065480" cy="32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upload.wikimedia.org/wikipedia/en/thumb/8/88/Alerta.jpg/230px-Alerta.jpg"/>
          <p:cNvPicPr/>
          <p:nvPr/>
        </p:nvPicPr>
        <p:blipFill>
          <a:blip r:embed="rId3"/>
          <a:stretch/>
        </p:blipFill>
        <p:spPr>
          <a:xfrm>
            <a:off x="1214280" y="1714680"/>
            <a:ext cx="2190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erlin Wall Crisi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http://www.youtube.com/watch?v=hH6nQhss4Y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h Bin Ein Berli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oz.deichman.net/uploaded_images/Berlin-Wall-Tumbles-Print-C10109746-705422.jpeg"/>
          <p:cNvPicPr/>
          <p:nvPr/>
        </p:nvPicPr>
        <p:blipFill>
          <a:blip r:embed="rId4"/>
          <a:stretch/>
        </p:blipFill>
        <p:spPr>
          <a:xfrm>
            <a:off x="5429160" y="2357280"/>
            <a:ext cx="3219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3:49:16Z</dcterms:created>
  <dc:creator>Nicole Tsui</dc:creator>
  <dc:description/>
  <dc:language>en-US</dc:language>
  <cp:lastModifiedBy>Unggy</cp:lastModifiedBy>
  <dcterms:modified xsi:type="dcterms:W3CDTF">2009-09-15T20:13:26Z</dcterms:modified>
  <cp:revision>3</cp:revision>
  <dc:subject/>
  <dc:title>Kennedy’s Foreign Policy</dc:title>
</cp:coreProperties>
</file>