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A28-0AB4-4C9F-B9B7-2E06FB71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2BB-4A0A-4B65-A362-83C87076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65E-AB79-437F-829C-6547A476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F56-F0F9-4F1E-B1F7-1988A2CB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3B6D-3018-4560-A2FE-94FE60F2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3367-0ED2-4F05-ADB2-E2C73571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A322-3DC6-4659-B448-846AAEF6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E99-1230-4FF0-A2D1-587DF7C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1211-44FA-4A96-8301-F7D6CF0F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505E-BE1A-4A46-B9FE-5DBF493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55B-F3AA-4456-87C2-0CEE592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F4D-12BB-4242-A14F-9B5C0C5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BD9E-9C6B-4F13-B0AB-E5B33A4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A98E-CE27-4FBE-A8D3-83B12F7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EE3-E651-4AF7-9033-822A4696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D887-17AB-48BC-A4EA-4347F3BA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404D-96A2-4561-B17A-5734B079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362-8F38-4675-A6F7-C07AB01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262-B835-4F8C-ABE0-97F4549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DD5-3097-4CA9-B037-02D7A36B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EC4-E225-4A3D-95F8-9763589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6A8-1989-4E52-864C-4468DF7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413-1949-43EC-AF84-F70603A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235-2D5C-4B71-B98F-1C1F6C0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AFE2-7950-4788-8678-99C58490339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3CD4-E4D0-4A53-90C5-D08ACEC4227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erdinand_Magellan" TargetMode="External"/><Relationship Id="rId3" Type="http://schemas.openxmlformats.org/officeDocument/2006/relationships/hyperlink" Target="http://en.wikipedia.org/wiki/Ferdinand_Magellan" TargetMode="External"/><Relationship Id="rId4" Type="http://schemas.openxmlformats.org/officeDocument/2006/relationships/hyperlink" Target="http://en.wikipedia.org/wiki/Ferdinand_Magellan" TargetMode="External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Matthew Wong 12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Occup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Valdivia found little Gold in th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However it was rich in 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Continued exploration west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CY"/>
              </a:rPr>
              <a:t>And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over a dozen tow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Introduced Labour System known as the encomienda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Greatest resistance to the Spanish oppresion came from the Mapuche (agai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They opposed european conquest till the 1880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Arauco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Valdivia died at the Battle of Tuca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dependence 1810-182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808 Napoleon occupied S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Joseph Bonaparte King of Spa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rpation of the throne from Ferdinand V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1981080"/>
            <a:ext cx="280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lean citizens elect Junta on September 10 18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d number of reforms leading to independ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u remained loyal to Spain. Fought war with Ch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tober 1914 Royalist army defeated the Chileans over Santia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turn of the 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poleon abdicated returned the Spanish King to the thr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ing introduced a repressive reg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ienated the Chilean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2 February 181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 February 1817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ose de San Martin defeated the royalists at Chabu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lly independent from Spain on 12 February 18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ly days of Independ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67120" y="19810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ervativ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arian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24280" y="1981080"/>
            <a:ext cx="149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ego Porta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17880" y="198108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asic Geograph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: 756,10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ntry comparison to the world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: 743,81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: 12,290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includes Easter Island (Isla de Pascua) and Isla Sala y Gom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22840" y="1981080"/>
            <a:ext cx="18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74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Coal, iron ore, nitrates, precious metals, molybdenum, and ti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Mostly obtained thrhough mi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Basic Histo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12000 years ago native americans settled into the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Some settlers moved south to the west of south Amer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Now Known as Chi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an Socie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ree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1) The northern peo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2) Araucani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3) The Incans (invaded at around mid 14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9904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Incan W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e Mapuche (People of the land) mounted the strongest resistance against the In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Defeated the Incans at the </a:t>
            </a:r>
            <a:r>
              <a:rPr b="1" lang="en-US" sz="2800" spc="-1" strike="noStrike">
                <a:solidFill>
                  <a:srgbClr val="ffffff"/>
                </a:solidFill>
                <a:latin typeface="Times CY"/>
              </a:rPr>
              <a:t>Battle of the Maule (3 day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4720" y="19810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Inva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ne Century later the Spaniards invaded south ame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2"/>
              </a:rPr>
              <a:t>Ferdinan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4"/>
              </a:rPr>
              <a:t>Magellan,</a:t>
            </a: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 first European to sight Chilean territory on November 1st 15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75320" y="2395440"/>
            <a:ext cx="378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Diego De Almargo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itle of discover often referred to Diego De Almar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rganised expedition to Chile in 153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Later died in a Civil war at Pe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75320" y="2379600"/>
            <a:ext cx="378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Pedro De Valdiv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Pedro de Valdivia captain of the army saw potential to expand the Spanish E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With a few 100 men secured the local inhabit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the city of Santiago de Nueva Extremadura on February 12, 154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144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09:21Z</dcterms:created>
  <dc:creator>TJ  Wong</dc:creator>
  <dc:description/>
  <dc:language>en-US</dc:language>
  <cp:lastModifiedBy>TJ  Wong</cp:lastModifiedBy>
  <dcterms:modified xsi:type="dcterms:W3CDTF">2009-09-17T10:50:17Z</dcterms:modified>
  <cp:revision>31</cp:revision>
  <dc:subject/>
  <dc:title>Chile</dc:title>
</cp:coreProperties>
</file>