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B1B-BF01-4857-8F0B-2040D8D0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24DE-0726-4D55-BDC6-7D533380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322-D4ED-4C1A-B96B-CBDDB931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94D-594D-466F-9095-34C0C997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D589-4365-4791-90AE-FB969D33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A118-36A4-4555-B5BB-6A167133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2F41-50B5-4DE3-8F50-278DFC12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006F-E3BA-42CE-99F8-019B8BC6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5003-692A-4164-ADAC-D0993B76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C838-E41E-4325-9C73-2CF87929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40D6-0B7B-46F4-AF71-26DC4C19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2275-ECBC-4F32-B65C-6E2952FF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0B5C-6161-4C71-B8AD-83F05D9F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1F29-AFD9-4780-A5EF-C40E8C8B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69FF-C477-4A52-9DC2-345F82C4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26EB-7E0D-4660-A3E0-9F7D0E5E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1551-9499-4587-AEA0-7DC32D05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45D-CB83-4A15-AE00-EDF5F09B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7FA-2BEB-4470-AA95-C995DF00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FB73-977B-4DE7-BBF9-753B8911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34A4-F21F-4C3A-9E82-77A6B70E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9943-1F50-4653-B3FC-3F35B2E3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CD9F-8DA4-4FAC-9EF6-C3EC1EE0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BA2-B0AD-4544-98AF-4982EC03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F46E-9D41-4105-8651-22180F4EDA5D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DB3D-47C5-493C-B52A-4923E1FFB4AD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erdinand_Magellan" TargetMode="External"/><Relationship Id="rId3" Type="http://schemas.openxmlformats.org/officeDocument/2006/relationships/hyperlink" Target="http://en.wikipedia.org/wiki/Ferdinand_Magellan" TargetMode="External"/><Relationship Id="rId4" Type="http://schemas.openxmlformats.org/officeDocument/2006/relationships/hyperlink" Target="http://en.wikipedia.org/wiki/Ferdinand_Magellan" TargetMode="External"/><Relationship Id="rId5" Type="http://schemas.openxmlformats.org/officeDocument/2006/relationships/image" Target="../media/image5.pct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hil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Matthew Wong 12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panish Occupa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Valdivia found little Gold in the count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However it was rich in agricul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Continued exploration west of the </a:t>
            </a:r>
            <a:r>
              <a:rPr b="0" i="1" lang="en-US" sz="2400" spc="-1" strike="noStrike">
                <a:solidFill>
                  <a:srgbClr val="ffffff"/>
                </a:solidFill>
                <a:latin typeface="Times CY"/>
              </a:rPr>
              <a:t>And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Founded over a dozen tow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Introduced Labour System known as the encomiendas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sistanc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Greatest resistance to the Spanish oppresion came from the Mapuche (again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They opposed european conquest till the 1880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Arauco W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Valdivia died at the Battle of Tucap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ndependence 1810-1826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808 Napoleon occupied Spa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de Joseph Bonaparte King of Spai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urpation of the throne from Ferdinand VI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51600" y="1981080"/>
            <a:ext cx="2803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ilean citizens elect Junta on September 10 18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roduced number of reforms leading to independenc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u remained loyal to Spain. Fought war with Chi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ctober 1914 Royalist army defeated the Chileans over Santiag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turn of the K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poleon abdicated returned the Spanish King to the thr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King introduced a repressive regi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ienated the Chilean peop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12 February 1818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2 February 1817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Jose de San Martin defeated the royalists at Chabuc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lly independent from Spain on 12 February 181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984920" y="1981080"/>
            <a:ext cx="3136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arly days of Independenc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967120" y="1981080"/>
            <a:ext cx="320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onservativ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uthoritarian Regi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824280" y="1981080"/>
            <a:ext cx="1495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iego Portal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017880" y="1981080"/>
            <a:ext cx="310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19th Centur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Basic Geograph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tal: 756,102 sq k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untry comparison to the world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d: 743,812 sq k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ter: 12,290 sq k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: includes Easter Island (Isla de Pascua) and Isla Sala y Gome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622840" y="1981080"/>
            <a:ext cx="186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20th Centur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31748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Natural Resourc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CY"/>
              </a:rPr>
              <a:t>Coal, iron ore, nitrates, precious metals, molybdenum, and timb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CY"/>
              </a:rPr>
              <a:t>Mostly obtained thrhough min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ヒラギノ角ゴ Pro W3"/>
              </a:rPr>
              <a:t>_x0010_Basic Histor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12000 years ago native americans settled into the new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Some settlers moved south to the west of south Americ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Now Known as Chi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hilean Societ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Three Grou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1) The northern peopl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2) Araucani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3) The Incans (invaded at around mid 1400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99040" y="1981080"/>
            <a:ext cx="2908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he Incan Wa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The Mapuche (People of the land) mounted the strongest resistance against the Inc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Defeated the Incans at the </a:t>
            </a:r>
            <a:r>
              <a:rPr b="1" lang="en-US" sz="2800" spc="-1" strike="noStrike">
                <a:solidFill>
                  <a:srgbClr val="ffffff"/>
                </a:solidFill>
                <a:latin typeface="Times CY"/>
              </a:rPr>
              <a:t>Battle of the Maule (3 day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84720" y="1981080"/>
            <a:ext cx="273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panish Invas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2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One Century later the Spaniards invaded south americ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CY"/>
                <a:hlinkClick r:id="rId2"/>
              </a:rPr>
              <a:t>Ferdinand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CY"/>
                <a:hlinkClick r:id="rId3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CY"/>
                <a:hlinkClick r:id="rId4"/>
              </a:rPr>
              <a:t>Magellan,</a:t>
            </a: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 first European to sight Chilean territory on November 1st 152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675320" y="2395440"/>
            <a:ext cx="3782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nell Roundhand Bold"/>
              </a:rPr>
              <a:t>Diego De Almargo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2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Title of discover often referred to Diego De Almarg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Organised expedition to Chile in 153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Later died in a Civil war at Per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75320" y="2379600"/>
            <a:ext cx="3782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nell Roundhand Bold"/>
              </a:rPr>
              <a:t>Pedro De Valdivi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Pedro de Valdivia captain of the army saw potential to expand the Spanish Empi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With a few 100 men secured the local inhabitan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Founded the city of Santiago de Nueva Extremadura on February 12, 154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51440" y="1981080"/>
            <a:ext cx="320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6:09:21Z</dcterms:created>
  <dc:creator>TJ  Wong</dc:creator>
  <dc:description/>
  <dc:language>en-US</dc:language>
  <cp:lastModifiedBy>TJ  Wong</cp:lastModifiedBy>
  <dcterms:modified xsi:type="dcterms:W3CDTF">2009-09-17T10:50:17Z</dcterms:modified>
  <cp:revision>31</cp:revision>
  <dc:subject/>
  <dc:title>Chile</dc:title>
</cp:coreProperties>
</file>