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4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9927-4DA7-4A1D-A7E9-3028A25A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1B9B-C657-4A0D-B9BD-E03A2526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31E6-D1DF-4176-A186-167756E1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3364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652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76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63364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652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0901-904D-4F77-AE0A-F8CC6801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C9A9-C78E-49A3-AF8B-09E883BA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8B32-22B5-46EE-B58D-8C076856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F2BA-F5C4-4D8E-8C84-BBEC6DB1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FDFC-FA42-4DFD-9962-B317109E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A743-B3A2-4025-9DFD-0330E83B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9880" y="1066680"/>
            <a:ext cx="4648320" cy="109515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F256-E15F-41DC-A19E-D0BECFBD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0896-048D-4921-A5DE-D0647465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9858-0137-4981-898D-F6C2E295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43B7-6D33-4A78-AE71-8A5EE7B5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971C-75EC-40C8-9DC7-0781C032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41DB-EFC3-4679-90D8-5D04E323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AEAB-22EF-4235-B5A8-7165673D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3364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7652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76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63364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7652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EDEB-F468-41F3-881C-9AABCA04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5954-B48E-46D0-9847-7A4C0C42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ACD9-A5B9-4540-BB44-A11F60BD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5144-EC96-4EB2-A24A-7694D3FB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9880" y="1066680"/>
            <a:ext cx="4648320" cy="109515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F6AB-6361-457B-8D87-BF1442B9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DE5E-E76F-45A7-A0D3-45BB6BF2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5E76-1910-451C-A461-D137DF20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A32B-B747-4BD7-8F67-61353D35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09F0-DBC0-4974-87D0-984003F63F74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D54E-15C9-4F5D-850E-B41546387E5E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erdinand_Magellan" TargetMode="External"/><Relationship Id="rId3" Type="http://schemas.openxmlformats.org/officeDocument/2006/relationships/hyperlink" Target="http://en.wikipedia.org/wiki/Ferdinand_Magellan" TargetMode="External"/><Relationship Id="rId4" Type="http://schemas.openxmlformats.org/officeDocument/2006/relationships/hyperlink" Target="http://en.wikipedia.org/wiki/Ferdinand_Magellan" TargetMode="External"/><Relationship Id="rId5" Type="http://schemas.openxmlformats.org/officeDocument/2006/relationships/image" Target="../media/image5.pct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hil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 Matthew Wong 12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panish Occupati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Valdivia found little Gold in the count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However it was rich in agricul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Continued exploration west of the </a:t>
            </a:r>
            <a:r>
              <a:rPr b="0" i="1" lang="en-US" sz="2400" spc="-1" strike="noStrike">
                <a:solidFill>
                  <a:srgbClr val="ffffff"/>
                </a:solidFill>
                <a:latin typeface="Times CY"/>
              </a:rPr>
              <a:t>And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Founded over a dozen town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Introduced Labour System known as the encomiendas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18148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Resistanc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Greatest resistance to the Spanish oppresion came from the Mapuche (again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They opposed european conquest till the 1880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Arauco W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Valdivia died at the Battle of Tucap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Independence 1810-1826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808 Napoleon occupied Spai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de Joseph Bonaparte King of Spai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urpation of the throne from Ferdinand VI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151600" y="1981080"/>
            <a:ext cx="2803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ilean citizens elect Junta on September 10 18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roduced number of reforms leading to independenc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u remained loyal to Spain. Fought war with Chi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ctober 1914 Royalist army defeated the Chileans over Santiag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Return of the Kin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poleon abdicated returned the Spanish King to the thr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King introduced a repressive regim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ienated the Chilean peop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12 February 1818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2 February 1817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Jose de San Martin defeated the royalists at Chabuco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mally independent from Spain on 12 February 1818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984920" y="1981080"/>
            <a:ext cx="3136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Early days of Independenc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967120" y="1981080"/>
            <a:ext cx="320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onservativ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uthoritarian Regi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824280" y="1981080"/>
            <a:ext cx="14954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Diego Portal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017880" y="1981080"/>
            <a:ext cx="310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19th Centur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Basic Geograph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tal: 756,102 sq k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untry comparison to the world: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d: 743,812 sq k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ter: 12,290 sq k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e: includes Easter Island (Isla de Pascua) and Isla Sala y Gomez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622840" y="1981080"/>
            <a:ext cx="1862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20th Centur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317484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Natural Resourc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CY"/>
              </a:rPr>
              <a:t>Coal, iron ore, nitrates, precious metals, molybdenum, and timb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CY"/>
              </a:rPr>
              <a:t>Mostly obtained thrhough min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ヒラギノ角ゴ Pro W3"/>
              </a:rPr>
              <a:t>_x0010_Basic Histor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12000 years ago native americans settled into the new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Some settlers moved south to the west of south Americ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Now Known as Chi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hilean Societ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Three Group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1) The northern peopl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2) Araucani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3) The Incans (invaded at around mid 1400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99040" y="1981080"/>
            <a:ext cx="2908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he Incan War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The Mapuche (People of the land) mounted the strongest resistance against the Inc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Defeated the Incans at the </a:t>
            </a:r>
            <a:r>
              <a:rPr b="1" lang="en-US" sz="2800" spc="-1" strike="noStrike">
                <a:solidFill>
                  <a:srgbClr val="ffffff"/>
                </a:solidFill>
                <a:latin typeface="Times CY"/>
              </a:rPr>
              <a:t>Battle of the Maule (3 day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184720" y="1981080"/>
            <a:ext cx="2735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panish Invasi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2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One Century later the Spaniards invaded south americ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CY"/>
                <a:hlinkClick r:id="rId2"/>
              </a:rPr>
              <a:t>Ferdinand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CY"/>
                <a:hlinkClick r:id="rId3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CY"/>
                <a:hlinkClick r:id="rId4"/>
              </a:rPr>
              <a:t>Magellan,</a:t>
            </a: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 first European to sight Chilean territory on November 1st 152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675320" y="2395440"/>
            <a:ext cx="3782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nell Roundhand Bold"/>
              </a:rPr>
              <a:t>Diego De Almargo 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2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Title of discover often referred to Diego De Almarg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Organised expedition to Chile in 1537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Later died in a Civil war at Per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75320" y="2379600"/>
            <a:ext cx="37828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nell Roundhand Bold"/>
              </a:rPr>
              <a:t>Pedro De Valdivi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Pedro de Valdivia captain of the army saw potential to expand the Spanish Empir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With a few 100 men secured the local inhabitan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Founded the city of Santiago de Nueva Extremadura on February 12, 154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951440" y="1981080"/>
            <a:ext cx="320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06:09:21Z</dcterms:created>
  <dc:creator>TJ  Wong</dc:creator>
  <dc:description/>
  <dc:language>en-US</dc:language>
  <cp:lastModifiedBy>TJ  Wong</cp:lastModifiedBy>
  <dcterms:modified xsi:type="dcterms:W3CDTF">2009-09-17T10:50:17Z</dcterms:modified>
  <cp:revision>31</cp:revision>
  <dc:subject/>
  <dc:title>Chile</dc:title>
</cp:coreProperties>
</file>