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4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EF5-8E3E-43AF-854B-AB785238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855-3499-4BF4-A6FC-8972C9F6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6F49-4015-472F-BB3B-AE0D2300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B4A-6AFB-4ACD-980E-BF7A6139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6D63-096A-4304-86DA-C7673021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1E23-DD77-4D1B-8607-69F21F0F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CFFB-C885-4B74-99EC-5B3D7B5B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C894-7A62-420E-885E-284A3D7E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D97C-3E68-4624-AE9B-7C6C6D85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0CA5-8F64-4F1F-8CBF-8753E191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D52C-715A-43A5-ADDD-05F9FC3B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4A4-6B68-4AA3-92D5-E381FC6E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EEC-6ABE-4337-8097-48299F9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4933-36F3-442E-8E91-B9B78DD2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721-EE08-4FC8-8DD0-963A06C9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9103-3A8F-4139-BC06-0F2FC4B0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3364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76520" y="388584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76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63364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76520" y="4761720"/>
            <a:ext cx="13737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C9DA-4C79-40DB-ADAC-465790CF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1EE-3CCB-4CD8-BCCF-A05011BA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FF3-87EE-45EE-B3AB-8A70725E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259-0D48-49B4-BCCC-441379FB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9880" y="1066680"/>
            <a:ext cx="4648320" cy="1095156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B1-D032-41A0-AF35-649DBC3A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927-ABA5-4361-9DB2-7A83348B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77400" y="476172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F28-B0EC-4829-82AD-46B56DDB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76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7400" y="3885840"/>
            <a:ext cx="20822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760" y="4761720"/>
            <a:ext cx="426708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0DC-1EB5-448E-B985-630D5F1D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C757-DE90-455E-908F-57DDEDA08CD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DCA3-17BF-406D-BF4A-6357EF42DCC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erdinand_Magellan" TargetMode="External"/><Relationship Id="rId3" Type="http://schemas.openxmlformats.org/officeDocument/2006/relationships/hyperlink" Target="http://en.wikipedia.org/wiki/Ferdinand_Magellan" TargetMode="External"/><Relationship Id="rId4" Type="http://schemas.openxmlformats.org/officeDocument/2006/relationships/hyperlink" Target="http://en.wikipedia.org/wiki/Ferdinand_Magellan" TargetMode="External"/><Relationship Id="rId5" Type="http://schemas.openxmlformats.org/officeDocument/2006/relationships/image" Target="../media/image5.pct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Matthew Wong 12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Occup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Valdivia found little Gold in the coun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However it was rich in agricul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Continued exploration west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CY"/>
              </a:rPr>
              <a:t>And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over a dozen town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Introduced Labour System known as the encomienda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18148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sista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Greatest resistance to the Spanish oppresion came from the Mapuche (agai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They opposed european conquest till the 1880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Arauco W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Valdivia died at the Battle of Tucap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dependence 1810-1826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808 Napoleon occupied Spa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e Joseph Bonaparte King of Spai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urpation of the throne from Ferdinand VI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51600" y="1981080"/>
            <a:ext cx="2803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ilean citizens elect Junta on September 10 18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ed number of reforms leading to independ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u remained loyal to Spain. Fought war with Ch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ctober 1914 Royalist army defeated the Chileans over Santia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Return of the K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poleon abdicated returned the Spanish King to the thr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King introduced a repressive regim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ienated the Chilean peop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2 February 1818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2 February 1817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Jose de San Martin defeated the royalists at Chabu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ally independent from Spain on 12 February 181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84920" y="1981080"/>
            <a:ext cx="3136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Early days of Independence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967120" y="1981080"/>
            <a:ext cx="320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ervativ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horitarian Reg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824280" y="1981080"/>
            <a:ext cx="1495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iego Portal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017880" y="1981080"/>
            <a:ext cx="31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19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Basic Geograph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: 756,10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untry comparison to the world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d: 743,812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ter: 12,290 sq k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includes Easter Island (Isla de Pascua) and Isla Sala y Gomez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22840" y="1981080"/>
            <a:ext cx="1862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9880" y="1066680"/>
            <a:ext cx="4648320" cy="23623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th Centu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190760" y="3885840"/>
            <a:ext cx="4267080" cy="167652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748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atural Resource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Coal, iron ore, nitrates, precious metals, molybdenum, and timb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CY"/>
              </a:rPr>
              <a:t>Mostly obtained thrhough min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ヒラギノ角ゴ Pro W3"/>
              </a:rPr>
              <a:t>_x0010_Basic Histor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12000 years ago native americans settled into the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Some settlers moved south to the west of south Americ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CY"/>
              </a:rPr>
              <a:t>Now Known as Chi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hilean Societ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ree Group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1) The northern peop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2) Araucani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3) The Incans (invaded at around mid 14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99040" y="198108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he Incan Wa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he Mapuche (People of the land) mounted the strongest resistance against the In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Defeated the Incans at the </a:t>
            </a:r>
            <a:r>
              <a:rPr b="1" lang="en-US" sz="2800" spc="-1" strike="noStrike">
                <a:solidFill>
                  <a:srgbClr val="ffffff"/>
                </a:solidFill>
                <a:latin typeface="Times CY"/>
              </a:rPr>
              <a:t>Battle of the Maule (3 day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84720" y="1981080"/>
            <a:ext cx="273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panish Inva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ne Century later the Spaniards invaded south ame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2"/>
              </a:rPr>
              <a:t>Ferdinand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3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CY"/>
                <a:hlinkClick r:id="rId4"/>
              </a:rPr>
              <a:t>Magellan,</a:t>
            </a: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 first European to sight Chilean territory on November 1st 152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75320" y="2395440"/>
            <a:ext cx="378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Diego De Almargo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2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Title of discover often referred to Diego De Almarg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Organised expedition to Chile in 153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CY"/>
              </a:rPr>
              <a:t>Later died in a Civil war at Pe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75320" y="2379600"/>
            <a:ext cx="3782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nell Roundhand Bold"/>
              </a:rPr>
              <a:t>Pedro De Valdivia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641" dir="9601013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Pedro de Valdivia captain of the army saw potential to expand the Spanish Empi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With a few 100 men secured the local inhabitan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C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CY"/>
              </a:rPr>
              <a:t>Founded the city of Santiago de Nueva Extremadura on February 12, 154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51440" y="1981080"/>
            <a:ext cx="320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09:21Z</dcterms:created>
  <dc:creator>TJ  Wong</dc:creator>
  <dc:description/>
  <dc:language>en-US</dc:language>
  <cp:lastModifiedBy>TJ  Wong</cp:lastModifiedBy>
  <dcterms:modified xsi:type="dcterms:W3CDTF">2009-09-17T10:50:17Z</dcterms:modified>
  <cp:revision>31</cp:revision>
  <dc:subject/>
  <dc:title>Chile</dc:title>
</cp:coreProperties>
</file>