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37E-A9D6-4A26-8E5E-95FE6939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0CF-C767-4698-ACF6-5F4F01C3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CFBE-83A2-4C86-A78C-328F37CB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028-8290-48EE-92FF-69F3ACFE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78AC-1751-4B33-90C1-4F02934B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A8A9-D6E4-40A0-9A03-DE0BBDD0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E6FF-70C3-4AC8-9BCC-E5BBF3FB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13D6-9923-474F-BD90-90FC4D5D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19DB-DFC6-491C-8E34-85BF5D83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8373-DE06-4B9E-81C7-D4C1F8BF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56E8-31B9-42CD-A725-1BF076B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247-C605-47F2-A1FE-4A15D8F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4EF2-2B42-4313-B7F7-1276EFA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258B-CAA3-4725-819D-7BAC33AD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E2EE-0DA5-4D2F-9D03-2EA1E7BF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73D8-F2CC-436F-A6DA-BEC8D26D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5548-1851-4206-810C-BA97CC6E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876-0042-4B15-A9E9-79F4E60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4D8-49C2-4DCE-BACC-29F09B2A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3E2-3930-4B57-970A-A2DC3904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B8A-914D-4118-87F5-C0C20E19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245-7E06-4FD1-9BF1-8FFBD3F3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69B-8325-495F-AAF4-CED69A86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60F-9A78-4D5C-BF2A-6C986AF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EB42-5BFC-4FB7-AE40-32D4AB7E960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3D50-E8F8-4815-AB41-DA263FC5A0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ctors that led to the rise of Castro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s of ident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ailure of traditional political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nish Coloniz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colonization (1492 – 18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-American wa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ies of Paris – gave USA control over former Spanish colon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massacres of Cuba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erican Exploi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military rule under the Teller Amendment – 1898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tt Amendment – limits Cuba’s sovereig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itation of land and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eeling of loss of identity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panish colonization and the USA exploitation of Cuba created a long term resent for foreign interven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tro promised a new independent Cu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people hope and self este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tista’s Firs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tista launched a coup in 19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led from behind the scene 1934 – 1940 through succession of puppet pres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me president himself in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more peaceful than his second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tista’s Second Rule - Dictatorshi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urned to power illegally in 19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ickly became a dict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political freed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k elections in 195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popular, met growing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ly unsuccessful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illiteracy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using and medical care too expen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ral areas suffered the m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t the economy improv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ana became known as the “Latin Las Veg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s projects – many jobs cre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of t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1950s Cuba was the third developed nation in the Amer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ailure of political system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ccession of corrupt governments, lack of democrac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-Americanism stance – land re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violence and oppression - Spanish massacres, then Batista’s violent reg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ing for a new, strong leader which is just what charismatic Castro stood f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0:14Z</dcterms:created>
  <dc:creator>Delphine</dc:creator>
  <dc:description/>
  <dc:language>en-US</dc:language>
  <cp:lastModifiedBy>VRA</cp:lastModifiedBy>
  <dcterms:modified xsi:type="dcterms:W3CDTF">2008-10-28T00:48:05Z</dcterms:modified>
  <cp:revision>18</cp:revision>
  <dc:subject/>
  <dc:title>Factors that led to the rise of Castro </dc:title>
</cp:coreProperties>
</file>