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6527-E256-4104-A944-497F3127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25C9-34C7-4C81-BC42-0389AE2E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F1D1-91D3-4A1F-B6AA-264F9627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CBB-C36C-4371-ACBB-3518A079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23BA-FCDD-469E-A9C1-C09813EE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5774-2312-491B-BF9E-7D29B821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1055-FDFD-4C71-9B05-4752B5AC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DCBF-1620-4DD5-9468-95187DFC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4AE8-A923-41F9-878A-E8B1A16E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A91D-98A1-4BA8-92CD-11DA69CF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A9CB-AABA-4BC1-8319-B7074ADD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AF09-A5B9-4A74-918C-99D75646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B0D8-4268-48A6-A3DE-6BA0C38A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0655-AFE7-4347-A7AB-BED60ABB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0C20-1327-4A61-A819-3001D3C4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820B-D6E9-4A94-AB58-FF3F0BA6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1A8E-DB09-4F1B-8A3D-D072D22F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B10E-9478-4374-B552-0E5692B2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556-8D7B-4B58-AAC4-755D2A75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1610-433E-4671-AA88-0F11C54E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E2E3-1D96-4CFC-A8A3-75F8FBF8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F2F-5032-418F-BB0B-77C098CD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0D67-513D-4C81-ACEC-2B1EECAC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5713-37F3-4388-B4E3-6D3AEB50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C80D-05F2-4C6E-B737-6C12C2E93F3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7E23-6637-4362-B1FE-11579C50327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actors that led to the rise of Castro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s of identit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ailure of traditional political syste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anish Coloniz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nish colonization (1492 – 180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nish-American wa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eaties of Paris – gave USA control over former Spanish colon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nish massacres of Cuban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merican Exploi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A military rule under the Teller Amendment – 1898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tt Amendment – limits Cuba’s sovereig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oitation of land and re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he feeling of loss of identity helped Castr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panish colonization and the USA exploitation of Cuba created a long term resent for foreign interven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stro promised a new independent Cub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ve people hope and self este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tista’s First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tista launched a coup in 193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uled from behind the scene 1934 – 1940 through succession of puppet presi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me president himself in 194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 oppos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ever more peaceful than his second ru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tista’s Second Rule - Dictatorship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turned to power illegally in 195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ickly became a dicta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political freed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ck elections in 195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popular, met growing oppos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cially unsuccessful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 illiteracy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using and medical care too expens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ural areas suffered the m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ut the economy improv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vana became known as the “Latin Las Vega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ions projects – many jobs crea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wth of tou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1950s Cuba was the third developed nation in the Americ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he failure of political system helped Castr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ccession of corrupt governments, lack of democrac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ti-Americanism stance – land ref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ng term violence and oppression - Spanish massacres, then Batista’s violent reg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nging for a new, strong leader which is just what charismatic Castro stood f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0:50:14Z</dcterms:created>
  <dc:creator>Delphine</dc:creator>
  <dc:description/>
  <dc:language>en-US</dc:language>
  <cp:lastModifiedBy>VRA</cp:lastModifiedBy>
  <dcterms:modified xsi:type="dcterms:W3CDTF">2008-10-28T00:48:05Z</dcterms:modified>
  <cp:revision>18</cp:revision>
  <dc:subject/>
  <dc:title>Factors that led to the rise of Castro </dc:title>
</cp:coreProperties>
</file>