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58B-504B-4D00-A62A-7EE30BC1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F55-DE44-4CAC-9235-8AB40AF0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516-E515-4706-AA36-45A14628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8A0-A17B-41C4-86B1-8D5F733C7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BF74-2853-46F6-85EB-4738D94A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70F8-0BB0-4644-A2E2-9ADB0C1D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AFF8-C5A7-4A99-8B26-925390F2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1503-A83D-4C70-A81A-50B878D7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290B-E308-4D55-A958-16C1CEC7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80B5-1C0F-44EF-9579-F828E63F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6F92-D50B-4BD6-B07A-C25AFBD2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D39-2079-4A54-B606-36401E89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4AF9-3000-4B7C-8E6A-DBB33034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9E51-37BB-458F-9841-1D6C626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747-3041-4AB3-9868-ECFA3F0F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3B5-C45D-46B6-B263-15237D29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7C97-641E-43D9-95C4-332137E2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4B5-D5E0-4F9C-A0B6-1FC4F6D7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DC1-B2D7-459A-A362-994BA87C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103-19D7-4AD8-AA55-9C379A6F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EEE0-3FF5-43BB-9A3F-AB41C3C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952-035B-4778-8284-0240A22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CE6-0772-45E7-9473-7CCA1914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B4F-D52A-47B0-B48F-DB439120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ECD-7089-4E79-ACE9-7F452992C7E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138-CB02-4026-BCD1-5F1DF2890D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tors that led to the rise of Castro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s of ident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ailure of traditional political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Coloniz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colonization (1492 – 18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-American w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ies of Paris – gave USA control over former Spanish colon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massacres of Cuba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rican Explo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military rule under the Teller Amendment – 189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tt Amendment – limits Cuba’s sovereig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itation of land and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eeling of loss of identity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anish colonization and the USA exploitation of Cuba created a long term resent for foreign interven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tro promised a new independent Cu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people hope and self 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tista’s Firs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ista launched a coup in 19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d from behind the scene 1934 – 1940 through succession of puppet pres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me president himself in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ore peaceful than his second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tista’s Second Rule - Dictatorshi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ed to power illegally in 19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ckly became a dict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political free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k elections in 19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popular, met growing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ly unsuccessfu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illiteracy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and medical care too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ral areas suffered the m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t the economy improv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ana became known as the “Latin Las Veg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s projects – many job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of t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1950s Cuba was the third developed nation in the Amer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ailure of political system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cession of corrupt governments, lack of democrac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-Americanism stance – land re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violence and oppression - Spanish massacres, then Batista’s violen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ing for a new, strong leader which is just what charismatic Castro stoo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0:14Z</dcterms:created>
  <dc:creator>Delphine</dc:creator>
  <dc:description/>
  <dc:language>en-US</dc:language>
  <cp:lastModifiedBy>VRA</cp:lastModifiedBy>
  <dcterms:modified xsi:type="dcterms:W3CDTF">2008-10-28T00:48:05Z</dcterms:modified>
  <cp:revision>18</cp:revision>
  <dc:subject/>
  <dc:title>Factors that led to the rise of Castro </dc:title>
</cp:coreProperties>
</file>