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763-B7B5-4873-A4C8-E7B5CE4F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DF6-BA4E-4CFD-BC22-A9E96FB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2B0-E05D-499E-BF38-4C7C87F1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D63-CEE9-4CB8-9DCB-95B81C01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CBF-8207-476E-B6E4-C5507001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1CC9-DB95-49AB-B10B-9A0CD672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6CB-805E-4D27-830A-B6A8DE6C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34D5-F3D5-47A4-AA38-9520CA18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DF2E-46A5-4FBD-9773-B7E29FE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7CEB-B008-40CB-AAF8-F5D672E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0C76-6DE1-4EC0-B725-E10819F7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10E-53F7-4390-B469-0699079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8EFC-7E49-4C3C-90F8-4228FA4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6E8E-E2ED-4857-AC3C-3F88BB0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1C58-CBD1-4E8B-9C3A-4B94DAF3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B8D7-3E34-4F5C-96E8-2A6D676A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D57A-733F-4857-9BB3-7FFC191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368-8D1C-45BF-87D4-B22067C2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976-81EE-4488-91FD-B2A975F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EB8-9EB8-40B7-B68B-B98C5DFB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AC0-FD05-4E92-81BA-4E542A07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B6D-1A40-4757-AC79-15ACFB9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18B-7207-41AD-B406-00909F8A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D75-8240-4D72-9503-19630BC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577-203F-4970-A858-D427130DDE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F10-AABF-4012-A543-4D50D7123A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tors that led to the rise of Castro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s of ident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ailure of traditional political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Coloniz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colonization (1492 – 18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-American w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ies of Paris – gave USA control over former Spanish colon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massacres of Cuba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rican Explo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military rule under the Teller Amendment – 189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tt Amendment – limits Cuba’s sovereig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itation of land and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eeling of loss of identity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anish colonization and the USA exploitation of Cuba created a long term resent for foreign interven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tro promised a new independent Cu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people hope and self 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tista’s Firs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ista launched a coup in 19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d from behind the scene 1934 – 1940 through succession of puppet pres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me president himself in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ore peaceful than his second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tista’s Second Rule - Dictatorshi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ed to power illegally in 19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ckly became a dict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political free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k elections in 19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popular, met growing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ly unsuccessfu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illiteracy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and medical care too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ral areas suffered the m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t the economy improv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ana became known as the “Latin Las Veg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s projects – many job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of t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1950s Cuba was the third developed nation in the Amer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ailure of political system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cession of corrupt governments, lack of democrac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-Americanism stance – land re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violence and oppression - Spanish massacres, then Batista’s violen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ing for a new, strong leader which is just what charismatic Castro stoo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0:14Z</dcterms:created>
  <dc:creator>Delphine</dc:creator>
  <dc:description/>
  <dc:language>en-US</dc:language>
  <cp:lastModifiedBy>VRA</cp:lastModifiedBy>
  <dcterms:modified xsi:type="dcterms:W3CDTF">2008-10-28T00:48:05Z</dcterms:modified>
  <cp:revision>18</cp:revision>
  <dc:subject/>
  <dc:title>Factors that led to the rise of Castro </dc:title>
</cp:coreProperties>
</file>