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AE35-0D67-477E-81D8-18714F907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D35A-A39A-43DC-B9BF-B425EA4A8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sent to teacher’s home for the second time. First time starved, mother made peace with teacher, sent back. Rebelled against “French way of living”. Was then sent to Colegio de la Salle as boarding student 1st grade. 6 years old. </a:t>
            </a:r>
            <a:br>
              <a:rPr sz="1200"/>
            </a:br>
            <a:r>
              <a:rPr b="0" lang="en-US" sz="1200" spc="-1" strike="noStrike">
                <a:solidFill>
                  <a:srgbClr val="000000"/>
                </a:solidFill>
                <a:latin typeface="Arial"/>
              </a:rPr>
              <a:t>2nd: stood up to vice-principal who constantly beat students. Was hit 3 times , 3rd time fought vice-president. 1st (beating, for fighting vp’s favorite student) time humiliation, shock of physical aggression. As a result was sent home. 5th grade</a:t>
            </a:r>
            <a:br>
              <a:rPr sz="1200"/>
            </a:br>
            <a:r>
              <a:rPr b="0" lang="en-US" sz="1200" spc="-1" strike="noStrike">
                <a:solidFill>
                  <a:srgbClr val="000000"/>
                </a:solidFill>
                <a:latin typeface="Arial"/>
              </a:rPr>
              <a:t>3rd: after 1st quarter of 5th grade. Threatened to burn down hom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9473E-50CB-4B16-B44D-336B7A22B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of revolution made him realise the impossibility of defeating Batista’s army head on and w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A6D8-06CB-49E1-9464-1E80A5B78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leading forces against Batista. Was accused of lying and slander because of something he said on radio. Shot himself after radio show on august 5th and died a few days later. Castro later proved Chibas’s statements correct. Cubans lost a popular leader and the biggest resistance force against Batista. Death of Chibas also made Batista’s coup (march 10 1952) much easi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DF44-028A-4061-B175-850DA2E76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ed attack due to 2 patrol soldiers who distracted Castro. Castro hoped it will trigger a popular insurrection against Batista dictatorship. Obviously failed, pulled back and regrouped. Was surprised by military patrol on August 1 and was captured and taken priso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B048B-D65E-4AF1-96D2-3FCD0D844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63593-49FB-4C4D-A0DD-FDB974888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FA91B-5D91-43D2-A184-3750F1E1F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D2BD2-E597-48AF-990A-593D38599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A9E7E-923C-405D-AD16-E83650F972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6CECC-8DF7-4F0C-9911-059EE48A5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4E38C-D2E7-4793-8EEC-91085E319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5A517-C757-4B2E-B362-18945A49B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69B20-E292-497F-AF95-EB7FAE8E6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74E13-E926-4932-9784-998203A4E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9FF57-EF7C-4D23-A7D1-141744A86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2DAE2-FBB0-442A-861C-A99BD0AF2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30176-5D3F-4B47-B913-51AA9A533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7E556-6719-4F10-9BF9-26585E78E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3D85F-8B33-4470-901E-91B07ACD2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F028B4-D9EC-4190-B269-9C81B9864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C5B4B7-C111-46DF-935D-E2A0C99199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75C4F-693A-4387-B6F6-66A9E2E49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47632-C0FB-4DC6-A11F-8C3300E67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B6770-C9C1-4CFF-8C42-10ABBB8ED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0E69D-9897-442F-A8B7-95875D9E1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30D84-FA0E-4BA4-AF0F-7457BE267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1E6A1-6FB6-4FAD-ABCF-76F67BD17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6710C-6460-421B-9BC0-6451804F2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flipV="1">
            <a:off x="460440" y="1828440"/>
            <a:ext cx="868356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AABDE-C8ED-42AA-8D30-8A73024CBD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3"/>
          <p:cNvGrpSpPr/>
          <p:nvPr/>
        </p:nvGrpSpPr>
        <p:grpSpPr>
          <a:xfrm>
            <a:off x="290520" y="2546280"/>
            <a:ext cx="711360" cy="474840"/>
            <a:chOff x="290520" y="2546280"/>
            <a:chExt cx="711360" cy="474840"/>
          </a:xfrm>
        </p:grpSpPr>
        <p:sp>
          <p:nvSpPr>
            <p:cNvPr id="49" name="Rectangle 1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1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 name="Group 6"/>
          <p:cNvGrpSpPr/>
          <p:nvPr/>
        </p:nvGrpSpPr>
        <p:grpSpPr>
          <a:xfrm>
            <a:off x="414360" y="2968560"/>
            <a:ext cx="738000" cy="474840"/>
            <a:chOff x="414360" y="2968560"/>
            <a:chExt cx="738000" cy="474840"/>
          </a:xfrm>
        </p:grpSpPr>
        <p:sp>
          <p:nvSpPr>
            <p:cNvPr id="52" name="Rectangle 1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1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Rectangle 1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2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7"/>
          <p:cNvSpPr/>
          <p:nvPr/>
        </p:nvSpPr>
        <p:spPr>
          <a:xfrm flipV="1">
            <a:off x="316080" y="3265200"/>
            <a:ext cx="868356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AD62-EB02-4EDD-8BFA-AB38A1303AD6}"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rauma</a:t>
            </a:r>
            <a:r>
              <a:rPr b="0" lang="en-US" sz="4400" spc="-1" strike="noStrike">
                <a:solidFill>
                  <a:srgbClr val="333399"/>
                </a:solidFill>
                <a:latin typeface="Arial"/>
              </a:rPr>
              <a:t>	</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950’s</a:t>
            </a:r>
            <a:endParaRPr b="0" lang="en-US" sz="4400" spc="-1" strike="noStrike">
              <a:solidFill>
                <a:srgbClr val="333399"/>
              </a:solidFill>
              <a:latin typeface="Arial"/>
            </a:endParaRPr>
          </a:p>
        </p:txBody>
      </p:sp>
      <p:pic>
        <p:nvPicPr>
          <p:cNvPr id="124" name="Content Placeholder 2" descr=""/>
          <p:cNvPicPr/>
          <p:nvPr/>
        </p:nvPicPr>
        <p:blipFill>
          <a:blip r:embed="rId1"/>
          <a:stretch/>
        </p:blipFill>
        <p:spPr>
          <a:xfrm>
            <a:off x="1176480" y="2004840"/>
            <a:ext cx="7785000" cy="413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mes</a:t>
            </a:r>
            <a:endParaRPr b="0" lang="en-US" sz="4400" spc="-1" strike="noStrike">
              <a:solidFill>
                <a:srgbClr val="333399"/>
              </a:solidFill>
              <a:latin typeface="Arial"/>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Fidel Castro)</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ment (26th of July Movemen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rsonal - Childhood</a:t>
            </a:r>
            <a:endParaRPr b="0" lang="en-US" sz="4400" spc="-1" strike="noStrike">
              <a:solidFill>
                <a:srgbClr val="333399"/>
              </a:solidFill>
              <a:latin typeface="Arial"/>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3 acts of rebellion”</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st: against abuse of teacher (“starvation” &amp; order)</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nd: vice-principal (Brother Bernado)</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rd: parents (right to go to scho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rsonal - Cayo Confites</a:t>
            </a:r>
            <a:endParaRPr b="0" lang="en-US" sz="4400" spc="-1" strike="noStrike">
              <a:solidFill>
                <a:srgbClr val="333399"/>
              </a:solidFill>
              <a:latin typeface="Arial"/>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yo Confites</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sion of Dominician Republic</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throw dictator - Rafael L Trujillo</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1947 - aged 21</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ED ‘revol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rsonal - Eduardo Chibas</a:t>
            </a:r>
            <a:endParaRPr b="0" lang="en-US" sz="4400" spc="-1" strike="noStrike">
              <a:solidFill>
                <a:srgbClr val="333399"/>
              </a:solidFill>
              <a:latin typeface="Arial"/>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icide - August 1951</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er of </a:t>
            </a:r>
            <a:r>
              <a:rPr b="0" i="1" lang="en-US" sz="1800" spc="-1" strike="noStrike">
                <a:solidFill>
                  <a:srgbClr val="000000"/>
                </a:solidFill>
                <a:latin typeface="Arial"/>
              </a:rPr>
              <a:t>Orthodox Cuban People’s Party</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r leader</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show host</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unced Batista (corrup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ovement</a:t>
            </a:r>
            <a:endParaRPr b="0" lang="en-US" sz="4400" spc="-1" strike="noStrike">
              <a:solidFill>
                <a:srgbClr val="333399"/>
              </a:solidFill>
              <a:latin typeface="Arial"/>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6th July 1953</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ed attack on Moncada military barracks in Santiago de Cuba</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killed in combat. </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 later murdered.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uba</a:t>
            </a:r>
            <a:endParaRPr b="0" lang="en-US" sz="4400" spc="-1" strike="noStrike">
              <a:solidFill>
                <a:srgbClr val="333399"/>
              </a:solidFill>
              <a:latin typeface="Arial"/>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0</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40</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5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930’s</a:t>
            </a:r>
            <a:endParaRPr b="0" lang="en-US" sz="4400" spc="-1" strike="noStrike">
              <a:solidFill>
                <a:srgbClr val="333399"/>
              </a:solidFill>
              <a:latin typeface="Arial"/>
            </a:endParaRPr>
          </a:p>
        </p:txBody>
      </p:sp>
      <p:sp>
        <p:nvSpPr>
          <p:cNvPr id="120" name=""/>
          <p:cNvSpPr txBox="1"/>
          <p:nvPr/>
        </p:nvSpPr>
        <p:spPr>
          <a:xfrm>
            <a:off x="1182600" y="2017800"/>
            <a:ext cx="7772400" cy="4114800"/>
          </a:xfrm>
          <a:prstGeom prst="rect">
            <a:avLst/>
          </a:prstGeom>
          <a:noFill/>
          <a:ln w="0">
            <a:noFill/>
          </a:ln>
        </p:spPr>
        <p:txBody>
          <a:bodyPr anchor="t">
            <a:normAutofit/>
          </a:bodyPr>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strike in 1933</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ban army leaders demand changes</a:t>
            </a:r>
            <a:endParaRPr b="0" lang="en-US" sz="1600" spc="-1" strike="noStrike">
              <a:solidFill>
                <a:srgbClr val="000000"/>
              </a:solidFill>
              <a:latin typeface="Arial"/>
            </a:endParaRPr>
          </a:p>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ista overthrew Machado Government</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volt of the sergeants”</a:t>
            </a:r>
            <a:endParaRPr b="0" lang="en-US" sz="1600" spc="-1" strike="noStrike">
              <a:solidFill>
                <a:srgbClr val="000000"/>
              </a:solidFill>
              <a:latin typeface="Arial"/>
            </a:endParaRPr>
          </a:p>
          <a:p>
            <a:pPr lvl="2" marL="1143000" indent="-228600">
              <a:spcBef>
                <a:spcPts val="4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món</a:t>
            </a:r>
            <a:r>
              <a:rPr b="1" lang="en-US" sz="1600" spc="-1" strike="noStrike">
                <a:solidFill>
                  <a:srgbClr val="000000"/>
                </a:solidFill>
                <a:latin typeface="Arial"/>
              </a:rPr>
              <a:t> </a:t>
            </a:r>
            <a:r>
              <a:rPr b="0" lang="en-US" sz="1600" spc="-1" strike="noStrike">
                <a:solidFill>
                  <a:srgbClr val="000000"/>
                </a:solidFill>
                <a:latin typeface="Arial"/>
              </a:rPr>
              <a:t>Grau, was made president </a:t>
            </a:r>
            <a:endParaRPr b="0" lang="en-US" sz="1600" spc="-1" strike="noStrike">
              <a:solidFill>
                <a:srgbClr val="000000"/>
              </a:solidFill>
              <a:latin typeface="Arial"/>
            </a:endParaRPr>
          </a:p>
          <a:p>
            <a:pPr lvl="2" marL="1143000" indent="-228600">
              <a:spcBef>
                <a:spcPts val="4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gencio</a:t>
            </a:r>
            <a:r>
              <a:rPr b="1" lang="en-US" sz="1600" spc="-1" strike="noStrike">
                <a:solidFill>
                  <a:srgbClr val="000000"/>
                </a:solidFill>
                <a:latin typeface="Arial"/>
              </a:rPr>
              <a:t> </a:t>
            </a:r>
            <a:r>
              <a:rPr b="0" lang="en-US" sz="1600" spc="-1" strike="noStrike">
                <a:solidFill>
                  <a:srgbClr val="000000"/>
                </a:solidFill>
                <a:latin typeface="Arial"/>
              </a:rPr>
              <a:t>Batista became the Army Chief of Staff</a:t>
            </a:r>
            <a:endParaRPr b="0" lang="en-US" sz="16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ista in charge behind the scenes</a:t>
            </a:r>
            <a:endParaRPr b="0" lang="en-US" sz="1200" spc="-1" strike="noStrike">
              <a:solidFill>
                <a:srgbClr val="000000"/>
              </a:solidFill>
              <a:latin typeface="Arial"/>
            </a:endParaRPr>
          </a:p>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ll Street crashes</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strike 1935</a:t>
            </a:r>
            <a:endParaRPr b="0" lang="en-US" sz="1600" spc="-1" strike="noStrike">
              <a:solidFill>
                <a:srgbClr val="000000"/>
              </a:solidFill>
              <a:latin typeface="Arial"/>
            </a:endParaRPr>
          </a:p>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39</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ista elected as Presiden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940’s</a:t>
            </a:r>
            <a:endParaRPr b="0" lang="en-US" sz="4400" spc="-1" strike="noStrike">
              <a:solidFill>
                <a:srgbClr val="333399"/>
              </a:solidFill>
              <a:latin typeface="Arial"/>
            </a:endParaRPr>
          </a:p>
        </p:txBody>
      </p:sp>
      <p:sp>
        <p:nvSpPr>
          <p:cNvPr id="122" name=""/>
          <p:cNvSpPr txBox="1"/>
          <p:nvPr/>
        </p:nvSpPr>
        <p:spPr>
          <a:xfrm>
            <a:off x="1182600" y="2017800"/>
            <a:ext cx="7772400" cy="4114800"/>
          </a:xfrm>
          <a:prstGeom prst="rect">
            <a:avLst/>
          </a:prstGeom>
          <a:noFill/>
          <a:ln w="0">
            <a:noFill/>
          </a:ln>
        </p:spPr>
        <p:txBody>
          <a:bodyPr anchor="t">
            <a:normAutofit/>
          </a:bodyPr>
          <a:p>
            <a:pPr marL="343080" indent="-343080">
              <a:spcBef>
                <a:spcPts val="3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ista</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lares war on Axis Power (1941)</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d by USSR (1943)</a:t>
            </a:r>
            <a:endParaRPr b="0" lang="en-US" sz="1200" spc="-1" strike="noStrike">
              <a:solidFill>
                <a:srgbClr val="000000"/>
              </a:solidFill>
              <a:latin typeface="Arial"/>
            </a:endParaRPr>
          </a:p>
          <a:p>
            <a:pPr marL="343080" indent="-343080">
              <a:spcBef>
                <a:spcPts val="3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44 - 48</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ista</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s to consolidate his power in the office</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ntarily exiles himself to the Dominican Republic</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power to Grau and Autenticos</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u’s government a disappointment</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ana becomes a popular place for</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bling</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titution</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fia</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terrorists</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s (1948)</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 against Senate Eduardo</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 is elected</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 of Cuba grows</a:t>
            </a:r>
            <a:endParaRPr b="0" lang="en-US" sz="1200" spc="-1" strike="noStrike">
              <a:solidFill>
                <a:srgbClr val="000000"/>
              </a:solidFill>
              <a:latin typeface="Arial"/>
            </a:endParaRPr>
          </a:p>
          <a:p>
            <a:pPr marL="343080" indent="-34308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5T13:58:56Z</dcterms:created>
  <dc:creator>.</dc:creator>
  <dc:description/>
  <cp:keywords/>
  <dc:language>en-US</dc:language>
  <cp:lastModifiedBy>Tung</cp:lastModifiedBy>
  <cp:lastPrinted>1904-01-01T00:00:00Z</cp:lastPrinted>
  <dcterms:modified xsi:type="dcterms:W3CDTF">2008-10-09T00:02:51Z</dcterms:modified>
  <cp:revision>10</cp:revision>
  <dc:subject/>
  <dc:title>Trauma  </dc:title>
</cp:coreProperties>
</file>